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BC01-42A2-42B0-BE8E-A6CC76638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EEDB-F784-48F9-8657-52F08176A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904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although m4 is redefined in E, it still requires a pointer to 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C6ED-5454-485A-BEE5-9E9D85F49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704F-4F18-4A46-9199-0169C8FF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5B0E-5F2C-4616-80EA-B7D7777B7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536D-F2FF-44A8-ADF6-CA5683D90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5459-6B8F-4BA2-993E-554A5ADE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A50F-FE32-4430-8A31-EE311C80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9C10-2BC4-4A76-8A8C-7C7D3425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859B-DA00-4E19-AB6A-DEBC2F10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9B93-0117-4C59-BC98-A59ED8FC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C7D5-5D49-44E4-AEFA-CE2A0FD9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D34B-537E-4338-B784-DC3912BC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EFD2-5B8F-4189-B3E4-4583D150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350F-9B7E-49D1-B45F-3110BE319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5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bject Orient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06440" y="2554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4987800"/>
            <a:ext cx="70106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of the slides in this lecture are by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oen Langendo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Delft University of Technology The 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3C10-B44D-4AA4-B10B-1180B682DA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Dynamic dispatch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ation: dispatch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25720" y="2666880"/>
            <a:ext cx="2087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tr to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also a ptr to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58920" y="3063960"/>
            <a:ext cx="2387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564080" y="3063960"/>
            <a:ext cx="1209600" cy="1554120"/>
            <a:chOff x="4564080" y="3063960"/>
            <a:chExt cx="1209600" cy="1554120"/>
          </a:xfrm>
        </p:grpSpPr>
        <p:sp>
          <p:nvSpPr>
            <p:cNvPr id="148" name=""/>
            <p:cNvSpPr/>
            <p:nvPr/>
          </p:nvSpPr>
          <p:spPr>
            <a:xfrm>
              <a:off x="4564080" y="3063960"/>
              <a:ext cx="1209600" cy="395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64080" y="34592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64080" y="38545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64080" y="42498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969240" y="3063960"/>
            <a:ext cx="1209600" cy="1158840"/>
            <a:chOff x="6969240" y="3063960"/>
            <a:chExt cx="1209600" cy="1158840"/>
          </a:xfrm>
        </p:grpSpPr>
        <p:sp>
          <p:nvSpPr>
            <p:cNvPr id="153" name=""/>
            <p:cNvSpPr/>
            <p:nvPr/>
          </p:nvSpPr>
          <p:spPr>
            <a:xfrm>
              <a:off x="6969240" y="306396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1_A_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69240" y="34592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2_A_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69240" y="38545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3_C_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130720" y="3276720"/>
            <a:ext cx="1838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340080" y="5353200"/>
            <a:ext cx="5184720" cy="395280"/>
            <a:chOff x="3340080" y="5353200"/>
            <a:chExt cx="5184720" cy="395280"/>
          </a:xfrm>
        </p:grpSpPr>
        <p:sp>
          <p:nvSpPr>
            <p:cNvPr id="158" name=""/>
            <p:cNvSpPr/>
            <p:nvPr/>
          </p:nvSpPr>
          <p:spPr>
            <a:xfrm>
              <a:off x="4029120" y="5353200"/>
              <a:ext cx="4495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*(a-&gt;dispatch_table[1])(a, 3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40080" y="536760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96240" y="5105520"/>
            <a:ext cx="2512440" cy="13629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C *c = ..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A *a =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-&gt;m2(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CD1A-1D8F-45B4-A7CC-F43AF226635D}" type="slidenum">
              <a:t>10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Black"/>
              </a:rPr>
              <a:t>Dynamic typing:implementation </a:t>
            </a:r>
            <a:br>
              <a:rPr sz="2400"/>
            </a:br>
            <a:r>
              <a:rPr b="0" lang="en-GB" sz="2400" spc="-1" strike="noStrike">
                <a:solidFill>
                  <a:srgbClr val="333399"/>
                </a:solidFill>
                <a:latin typeface="Arial Black"/>
              </a:rPr>
              <a:t>requires </a:t>
            </a:r>
            <a:r>
              <a:rPr b="0" lang="en-GB" sz="2400" spc="-1" strike="noStrike">
                <a:solidFill>
                  <a:srgbClr val="0033cc"/>
                </a:solidFill>
                <a:latin typeface="Arial Black"/>
              </a:rPr>
              <a:t>pointer subtyping</a:t>
            </a:r>
            <a:r>
              <a:rPr b="0" lang="en-GB" sz="24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876240" y="3814920"/>
            <a:ext cx="6829560" cy="169452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_A_C(class_A *this_A, 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_C *this = </a:t>
            </a:r>
            <a:r>
              <a:rPr b="1" lang="en-GB" sz="1800" spc="-1" strike="noStrike">
                <a:solidFill>
                  <a:srgbClr val="0033cc"/>
                </a:solidFill>
                <a:latin typeface="Courier New"/>
              </a:rPr>
              <a:t>convert_ptrA_to_ptrC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this_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his-&gt;a2 = this-&gt;c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85040" y="1714680"/>
            <a:ext cx="2649600" cy="10314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2 = c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40160" y="2048040"/>
            <a:ext cx="938160" cy="1122120"/>
          </a:xfrm>
          <a:prstGeom prst="downArrow">
            <a:avLst>
              <a:gd name="adj1" fmla="val 50000"/>
              <a:gd name="adj2" fmla="val 299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0056-5346-49AA-9F54-E9BCB50397D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Multiple inheritanc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1383480" y="1612800"/>
            <a:ext cx="2649600" cy="20260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C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c1, c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1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99480" y="3867120"/>
            <a:ext cx="3335400" cy="2357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E : public C, 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e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4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5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53400" y="1612800"/>
            <a:ext cx="2649600" cy="20260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d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3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4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0207-C04B-4700-B04C-D5014F6F08D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60400" y="605628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C_to_ptrE(c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D_to_ptrE(d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d -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60400" y="605628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C_to_ptrE(c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D_to_ptrE(d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d -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87400" y="477036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C(e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D(e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e +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87400" y="477036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C(e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D(e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 +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Multiple inheritanc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285640" y="1600200"/>
            <a:ext cx="6561360" cy="3050280"/>
            <a:chOff x="2285640" y="1600200"/>
            <a:chExt cx="6561360" cy="3050280"/>
          </a:xfrm>
        </p:grpSpPr>
        <p:sp>
          <p:nvSpPr>
            <p:cNvPr id="175" name=""/>
            <p:cNvSpPr/>
            <p:nvPr/>
          </p:nvSpPr>
          <p:spPr>
            <a:xfrm>
              <a:off x="4351320" y="1733760"/>
              <a:ext cx="2057400" cy="291456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21480" y="425160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E-obje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89600" y="1733760"/>
              <a:ext cx="2057400" cy="291456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08720" y="4251600"/>
              <a:ext cx="101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E-cla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85640" y="1600200"/>
              <a:ext cx="19897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tr to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tr to C inside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70240" y="1997280"/>
              <a:ext cx="238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75040" y="1857600"/>
              <a:ext cx="1209960" cy="395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75040" y="225288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75040" y="264816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75040" y="3043440"/>
              <a:ext cx="1209960" cy="395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180200" y="18576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1_C_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80200" y="22528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2_C_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80200" y="264816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3_D_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42040" y="2070360"/>
              <a:ext cx="183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75040" y="343872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d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75040" y="383400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e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85640" y="2816280"/>
              <a:ext cx="198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tr to D inside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70240" y="3213360"/>
              <a:ext cx="238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80200" y="30434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4_D_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80200" y="34387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5_E_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42040" y="2816280"/>
              <a:ext cx="1838160" cy="399960"/>
            </a:xfrm>
            <a:custGeom>
              <a:avLst/>
              <a:gdLst/>
              <a:ahLst/>
              <a:rect l="l" t="t" r="r" b="b"/>
              <a:pathLst>
                <a:path w="1158" h="252">
                  <a:moveTo>
                    <a:pt x="0" y="250"/>
                  </a:moveTo>
                  <a:lnTo>
                    <a:pt x="787" y="252"/>
                  </a:lnTo>
                  <a:lnTo>
                    <a:pt x="787" y="2"/>
                  </a:lnTo>
                  <a:lnTo>
                    <a:pt x="1158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28200" y="429084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er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2880" y="56530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7497-ACF9-4686-9C53-F00C41CC3A82}" type="slidenum">
              <a:t>13</a:t>
            </a:fld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iven an object </a:t>
            </a:r>
            <a:r>
              <a:rPr b="1" lang="en-US" sz="3200" spc="-1" strike="noStrike">
                <a:solidFill>
                  <a:srgbClr val="0033cc"/>
                </a:solidFill>
                <a:latin typeface="Courier New"/>
              </a:rPr>
              <a:t>e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of class </a:t>
            </a:r>
            <a:r>
              <a:rPr b="1" lang="en-US" sz="3200" spc="-1" strike="noStrike">
                <a:solidFill>
                  <a:srgbClr val="0033cc"/>
                </a:solidFill>
                <a:latin typeface="Courier New"/>
              </a:rPr>
              <a:t>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06440" y="2362320"/>
          <a:ext cx="8508960" cy="3319200"/>
        </p:xfrm>
        <a:graphic>
          <a:graphicData uri="http://schemas.openxmlformats.org/drawingml/2006/table">
            <a:tbl>
              <a:tblPr/>
              <a:tblGrid>
                <a:gridCol w="1346040"/>
                <a:gridCol w="7162920"/>
              </a:tblGrid>
              <a:tr h="110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e.m1(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*(e-&gt;dispatch_table[0]))((Class_C *) 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e.m3(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*(e-&gt;dispatch_table[2]))(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class_D *)((char *)e + sizeof(Class_C)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e.m4(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*(e-&gt;dispatch_table[3]))(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class_D *)((char *)e + sizeof(Class_C)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D9A8-8FDE-4D6F-B304-047C075E7AB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nother OO Featur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capsulate local state within an object, Java has “private” “protected” and “public” qual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methods/fields can’t be called/used outside of the class in which they are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is is really a scope/visibility issue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nt-end during semantic analysis (type checking and so on), the compiler maintains this information in the symbol table for each class and enforces visibility r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4013-AC09-4E67-854A-E226014D13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bjects (with single inheritance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226440" y="982800"/>
            <a:ext cx="59414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start :=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 Vehicle extends Object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position := sta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 move(int x) = {position := position + x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 Car extends Vehic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passengers :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 await(v : Vehicle)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f (v.position &lt; posi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n v.move(position – v.positio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lse self.move(1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 Truck extends Vehic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 move(int x)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f x &lt;= 55 then position := position +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t := new Tr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c := new C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v : Vehicle :=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.passengers :=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.move(6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.move(7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.await(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9600" y="4014720"/>
            <a:ext cx="20217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ethod over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46800" y="5259240"/>
            <a:ext cx="3592800" cy="1008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ubtyping allow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ruck or Car to be viewe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sed as a 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804680" y="6087960"/>
            <a:ext cx="3647880" cy="1857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503160" y="4105080"/>
            <a:ext cx="3103560" cy="44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855880" y="5217840"/>
            <a:ext cx="2604960" cy="368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D36B-377F-45C6-AB8D-443D130808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bject Implementation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how do we access object fiel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oth inherited fields and fields for the current obj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how do we access method co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the current class does not define a particular method, where do we go to get the inherited method c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how do we handle method overr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How do we implement subtyping (“object polymorphism”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B is derived from A, then need to be able to treat a pointer to a B-object as if it were an A-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AB2A-3220-4A2F-ADF9-0F119C8C9F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tic &amp; Dynamic Method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 of compiling a method is some machine code located at a particular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method invocation point, we need to figure out what code location to jump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has static &amp; dynamic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static method calls, we look at the static type of the calling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dynamic method calls, we need the dynamic type of the calling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B4FE-F15E-431F-8E00-F7485905AA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Object represent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597240" y="1752480"/>
            <a:ext cx="2786760" cy="34995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a1, a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1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1 =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2 = a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21160" y="1752480"/>
            <a:ext cx="756720" cy="459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46400" y="24829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165640" y="2354400"/>
            <a:ext cx="1209600" cy="763560"/>
            <a:chOff x="5165640" y="2354400"/>
            <a:chExt cx="1209600" cy="763560"/>
          </a:xfrm>
        </p:grpSpPr>
        <p:sp>
          <p:nvSpPr>
            <p:cNvPr id="67" name=""/>
            <p:cNvSpPr/>
            <p:nvPr/>
          </p:nvSpPr>
          <p:spPr>
            <a:xfrm>
              <a:off x="5165640" y="23544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65640" y="27496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65640" y="4138560"/>
            <a:ext cx="1209600" cy="763560"/>
            <a:chOff x="5165640" y="4138560"/>
            <a:chExt cx="1209600" cy="763560"/>
          </a:xfrm>
        </p:grpSpPr>
        <p:sp>
          <p:nvSpPr>
            <p:cNvPr id="70" name=""/>
            <p:cNvSpPr/>
            <p:nvPr/>
          </p:nvSpPr>
          <p:spPr>
            <a:xfrm>
              <a:off x="5165640" y="413856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1_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65640" y="45338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2_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6673320" y="41576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thod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62400" y="1955880"/>
            <a:ext cx="1209960" cy="395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86080" y="2151000"/>
            <a:ext cx="1312920" cy="1994040"/>
          </a:xfrm>
          <a:custGeom>
            <a:avLst/>
            <a:gdLst/>
            <a:ahLst/>
            <a:rect l="l" t="t" r="r" b="b"/>
            <a:pathLst>
              <a:path w="827" h="1256">
                <a:moveTo>
                  <a:pt x="773" y="20"/>
                </a:moveTo>
                <a:cubicBezTo>
                  <a:pt x="800" y="10"/>
                  <a:pt x="827" y="0"/>
                  <a:pt x="727" y="20"/>
                </a:cubicBezTo>
                <a:cubicBezTo>
                  <a:pt x="627" y="40"/>
                  <a:pt x="284" y="9"/>
                  <a:pt x="174" y="143"/>
                </a:cubicBezTo>
                <a:cubicBezTo>
                  <a:pt x="64" y="277"/>
                  <a:pt x="0" y="641"/>
                  <a:pt x="66" y="826"/>
                </a:cubicBezTo>
                <a:cubicBezTo>
                  <a:pt x="132" y="1011"/>
                  <a:pt x="352" y="1133"/>
                  <a:pt x="573" y="1256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377040" y="1573200"/>
            <a:ext cx="706320" cy="352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20080" y="132084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0751-0D24-4E47-B5E0-92713ADEC62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Black"/>
              </a:rPr>
              <a:t>Inheritance (“pointer polymorphism”)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6604920" y="27511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05280" y="420048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1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05280" y="459576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2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80840" y="4033800"/>
            <a:ext cx="226260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hod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code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s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mory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805280" y="2416320"/>
            <a:ext cx="1209600" cy="1158840"/>
            <a:chOff x="4805280" y="2416320"/>
            <a:chExt cx="1209600" cy="1158840"/>
          </a:xfrm>
        </p:grpSpPr>
        <p:sp>
          <p:nvSpPr>
            <p:cNvPr id="83" name=""/>
            <p:cNvSpPr/>
            <p:nvPr/>
          </p:nvSpPr>
          <p:spPr>
            <a:xfrm>
              <a:off x="4805280" y="24163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5280" y="28116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05280" y="32068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805280" y="499104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3_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0040" y="1289160"/>
            <a:ext cx="2923920" cy="26892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 : public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b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3(void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1 = a1 + a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95920" y="2028960"/>
            <a:ext cx="1209600" cy="395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19600" y="2224080"/>
            <a:ext cx="1312920" cy="1994040"/>
          </a:xfrm>
          <a:custGeom>
            <a:avLst/>
            <a:gdLst/>
            <a:ahLst/>
            <a:rect l="l" t="t" r="r" b="b"/>
            <a:pathLst>
              <a:path w="827" h="1256">
                <a:moveTo>
                  <a:pt x="773" y="20"/>
                </a:moveTo>
                <a:cubicBezTo>
                  <a:pt x="800" y="10"/>
                  <a:pt x="827" y="0"/>
                  <a:pt x="727" y="20"/>
                </a:cubicBezTo>
                <a:cubicBezTo>
                  <a:pt x="627" y="40"/>
                  <a:pt x="284" y="9"/>
                  <a:pt x="174" y="143"/>
                </a:cubicBezTo>
                <a:cubicBezTo>
                  <a:pt x="64" y="277"/>
                  <a:pt x="0" y="641"/>
                  <a:pt x="66" y="826"/>
                </a:cubicBezTo>
                <a:cubicBezTo>
                  <a:pt x="132" y="1011"/>
                  <a:pt x="352" y="1133"/>
                  <a:pt x="573" y="1256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09840" y="1646280"/>
            <a:ext cx="706680" cy="352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37120" y="139392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B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8360" y="5888160"/>
            <a:ext cx="6964200" cy="825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a pointer to a B object c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reated as if it were a pointer to an A objec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CF6D-56E7-475E-9572-94C455B1BFC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Method overrid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6287400" y="265284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92680" y="416232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1_A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92680" y="455760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2_A_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90560" y="41324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thod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780080" y="2427120"/>
            <a:ext cx="1209600" cy="1158840"/>
            <a:chOff x="4780080" y="2427120"/>
            <a:chExt cx="1209600" cy="1158840"/>
          </a:xfrm>
        </p:grpSpPr>
        <p:sp>
          <p:nvSpPr>
            <p:cNvPr id="99" name=""/>
            <p:cNvSpPr/>
            <p:nvPr/>
          </p:nvSpPr>
          <p:spPr>
            <a:xfrm>
              <a:off x="4780080" y="24271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80080" y="28224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80080" y="32176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792680" y="495288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3_C_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6880" y="2057400"/>
            <a:ext cx="2923920" cy="3683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C : public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c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3(void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1 = a1 + a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2 = c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435640" y="5460480"/>
            <a:ext cx="0" cy="582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730840" y="5460480"/>
            <a:ext cx="0" cy="582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86240" y="596736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l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45800" y="596736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95920" y="2028960"/>
            <a:ext cx="1209600" cy="395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19600" y="2224080"/>
            <a:ext cx="1312920" cy="1994040"/>
          </a:xfrm>
          <a:custGeom>
            <a:avLst/>
            <a:gdLst/>
            <a:ahLst/>
            <a:rect l="l" t="t" r="r" b="b"/>
            <a:pathLst>
              <a:path w="827" h="1256">
                <a:moveTo>
                  <a:pt x="773" y="20"/>
                </a:moveTo>
                <a:cubicBezTo>
                  <a:pt x="800" y="10"/>
                  <a:pt x="827" y="0"/>
                  <a:pt x="727" y="20"/>
                </a:cubicBezTo>
                <a:cubicBezTo>
                  <a:pt x="627" y="40"/>
                  <a:pt x="284" y="9"/>
                  <a:pt x="174" y="143"/>
                </a:cubicBezTo>
                <a:cubicBezTo>
                  <a:pt x="64" y="277"/>
                  <a:pt x="0" y="641"/>
                  <a:pt x="66" y="826"/>
                </a:cubicBezTo>
                <a:cubicBezTo>
                  <a:pt x="132" y="1011"/>
                  <a:pt x="352" y="1133"/>
                  <a:pt x="573" y="1256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009840" y="1646280"/>
            <a:ext cx="706680" cy="352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29560" y="13939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D4EB-A999-40DB-8DAF-6AE871BE946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amp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547560" y="1962000"/>
            <a:ext cx="3838320" cy="2924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bstract class Shap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Shape() {return tru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Rectangle() {return fals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Square() {return fals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bstract double SurfaceArea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lass Rectangle extends Shap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double SurfaceArea { ...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Rectangle() {return tru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lass Squrae extends Rectangl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Square() {return tru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246640" y="1179360"/>
          <a:ext cx="2678040" cy="2211480"/>
        </p:xfrm>
        <a:graphic>
          <a:graphicData uri="http://schemas.openxmlformats.org/drawingml/2006/table">
            <a:tbl>
              <a:tblPr/>
              <a:tblGrid>
                <a:gridCol w="2678040"/>
              </a:tblGrid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 table for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ctang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Shape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Sha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Rectangle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Rectang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Square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Sha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rfaceArea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Rectang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5216400" y="3797280"/>
            <a:ext cx="28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od table f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6400" y="5888160"/>
            <a:ext cx="28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urfaceArea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Rect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16400" y="5356080"/>
            <a:ext cx="2830680" cy="532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Square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6400" y="4838760"/>
            <a:ext cx="28306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Rectangle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Rect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16400" y="4317840"/>
            <a:ext cx="2830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Shape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6400" y="3797280"/>
            <a:ext cx="2830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16400" y="4838760"/>
            <a:ext cx="283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16400" y="5356080"/>
            <a:ext cx="283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16400" y="5888160"/>
            <a:ext cx="283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16400" y="6408720"/>
            <a:ext cx="28306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16400" y="3797280"/>
            <a:ext cx="0" cy="520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047080" y="3797280"/>
            <a:ext cx="0" cy="520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16400" y="4317840"/>
            <a:ext cx="2830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47080" y="4317840"/>
            <a:ext cx="0" cy="2090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16400" y="4317840"/>
            <a:ext cx="0" cy="2090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5920" y="5450040"/>
            <a:ext cx="334152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compiler needs to 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SYMBOL TABLE to keep t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object types and relat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7761-5500-4BFA-976D-78A5E2ADB06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Static vs. Dynamic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method to invoke on overloaded polymorphic ty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7240" y="3890880"/>
            <a:ext cx="2771640" cy="1503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C *c = ..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A *a =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-&gt;m2(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37000" y="4137480"/>
            <a:ext cx="739080" cy="797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297320" y="3733920"/>
            <a:ext cx="3929040" cy="1592280"/>
            <a:chOff x="4297320" y="3733920"/>
            <a:chExt cx="3929040" cy="1592280"/>
          </a:xfrm>
        </p:grpSpPr>
        <p:grpSp>
          <p:nvGrpSpPr>
            <p:cNvPr id="136" name=""/>
            <p:cNvGrpSpPr/>
            <p:nvPr/>
          </p:nvGrpSpPr>
          <p:grpSpPr>
            <a:xfrm>
              <a:off x="4602240" y="3886200"/>
              <a:ext cx="3200400" cy="459720"/>
              <a:chOff x="4602240" y="3886200"/>
              <a:chExt cx="3200400" cy="459720"/>
            </a:xfrm>
          </p:grpSpPr>
          <p:sp>
            <p:nvSpPr>
              <p:cNvPr id="137" name=""/>
              <p:cNvSpPr/>
              <p:nvPr/>
            </p:nvSpPr>
            <p:spPr>
              <a:xfrm>
                <a:off x="4602240" y="3917880"/>
                <a:ext cx="2112840" cy="368280"/>
              </a:xfrm>
              <a:prstGeom prst="rect">
                <a:avLst/>
              </a:prstGeom>
              <a:noFill/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urier New"/>
                  </a:rPr>
                  <a:t>m2_A_A(a, 3)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910200" y="3886200"/>
                <a:ext cx="892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stati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602240" y="4724280"/>
              <a:ext cx="3624120" cy="459720"/>
              <a:chOff x="4602240" y="4724280"/>
              <a:chExt cx="3624120" cy="459720"/>
            </a:xfrm>
          </p:grpSpPr>
          <p:sp>
            <p:nvSpPr>
              <p:cNvPr id="140" name=""/>
              <p:cNvSpPr/>
              <p:nvPr/>
            </p:nvSpPr>
            <p:spPr>
              <a:xfrm>
                <a:off x="4602240" y="4754520"/>
                <a:ext cx="2112840" cy="368280"/>
              </a:xfrm>
              <a:prstGeom prst="rect">
                <a:avLst/>
              </a:prstGeom>
              <a:noFill/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urier New"/>
                  </a:rPr>
                  <a:t>m2_A_C(a, 3)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911640" y="4724280"/>
                <a:ext cx="131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dynami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4297320" y="3733920"/>
              <a:ext cx="304920" cy="15922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1400 h 1592280"/>
                <a:gd name="textAreaBottom" fmla="*/ 1550880 h 159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E4D1-CA48-4079-8669-22E95155C01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1T10:20:51Z</dcterms:modified>
  <cp:revision>274</cp:revision>
  <dc:subject/>
  <dc:title>Slide 1</dc:title>
</cp:coreProperties>
</file>