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20035-CFA9-4370-8AEF-04FBE26CC9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7D067-D157-48B1-ACD1-EC5EE4EFDF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17EB-FBFA-4049-BB91-B82A5A910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3681-1608-4710-8EB2-4496358E8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5AB8-D88C-40D2-BB04-F96A17AEF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FFA8-B4AF-4415-9704-DAE2DC86D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9758-C670-4B07-93C4-0B318C7A9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C7A0-2CE3-465E-858A-108C101CE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A2EA-6FF5-4907-B596-750A2D625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0A91-D33C-4019-BE6F-BFF7E3007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4FCB-B86A-4820-BF78-1ED3D70B8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1183-824A-474D-9F50-38EB982C1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B47D-6F89-490C-9F56-669869046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D7E9-E42A-497D-9FC5-F84920252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9AB7E-C7AE-4D8F-AB38-F1B2B8BD87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9640"/>
            <a:ext cx="7772400" cy="2291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 03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ntext Free Grammars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and 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Predictive Parsing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EF1F-6541-42EB-AA61-FEEE79913CB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Rewrite?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1" name=""/>
          <p:cNvSpPr/>
          <p:nvPr/>
        </p:nvSpPr>
        <p:spPr>
          <a:xfrm>
            <a:off x="1488960" y="1371600"/>
            <a:ext cx="5050080" cy="15800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= WE | NE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WE ::=  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</a:rPr>
              <a:t>if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E 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</a:rPr>
              <a:t>then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WE 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</a:rPr>
              <a:t>else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WE | 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</a:rPr>
              <a:t>blah-blah 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NE  ::=  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</a:rPr>
              <a:t>if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E 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</a:rPr>
              <a:t>then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</a:rPr>
              <a:t>if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E 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</a:rPr>
              <a:t>then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WE 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</a:rPr>
              <a:t>else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140720" y="4800600"/>
            <a:ext cx="39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753520" y="4800600"/>
            <a:ext cx="72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55120" y="4800600"/>
            <a:ext cx="3070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131440" y="6172200"/>
            <a:ext cx="39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515640" y="6172200"/>
            <a:ext cx="72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893200" y="6172200"/>
            <a:ext cx="3070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341840" y="6172200"/>
            <a:ext cx="3056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826760" y="6172200"/>
            <a:ext cx="65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560800" y="6172200"/>
            <a:ext cx="3056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4343040" y="4343400"/>
            <a:ext cx="76212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5486040" y="4343400"/>
            <a:ext cx="121932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 flipV="1">
            <a:off x="5486400" y="4343400"/>
            <a:ext cx="45720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257800" y="4419720"/>
            <a:ext cx="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7010280" y="5638680"/>
            <a:ext cx="457200" cy="53352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7010280" y="5638680"/>
            <a:ext cx="1067040" cy="53352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7009920" y="5638680"/>
            <a:ext cx="1676520" cy="53352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6781680" y="5715000"/>
            <a:ext cx="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334120" y="5638680"/>
            <a:ext cx="129528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6095880" y="5715000"/>
            <a:ext cx="53352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31800" y="3276720"/>
            <a:ext cx="3056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5257800" y="3657600"/>
            <a:ext cx="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139360" y="4038480"/>
            <a:ext cx="4809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6781680" y="5029200"/>
            <a:ext cx="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656040" y="4724280"/>
            <a:ext cx="3056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662880" y="5334120"/>
            <a:ext cx="5205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W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25440" y="3200400"/>
            <a:ext cx="3533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ow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f e1 then if e2 then s1 else s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has a unique deriv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29280" y="6019920"/>
            <a:ext cx="2347920" cy="64260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ote: L(G3) = L(G4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an you prove it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3FF7-6087-402F-B75D-26D85D2AB50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Fun Fact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147600" y="3274920"/>
                <a:ext cx="853452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m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m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1" name=""/>
          <p:cNvSpPr/>
          <p:nvPr/>
        </p:nvSpPr>
        <p:spPr>
          <a:xfrm>
            <a:off x="313920" y="1447920"/>
            <a:ext cx="548424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ee Hopcroft and Ullman, “Introduction to Autom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eory, Languages, and Computatio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87360" y="2209680"/>
            <a:ext cx="70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 Some context free languages a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herently ambiguo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-- eve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xt-free grammar will be ambiguous.  For exampl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55720" y="4483080"/>
            <a:ext cx="596880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(2) Checking for ambiguity in an arbitrary context-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grammar is not decidable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932760" y="5614920"/>
            <a:ext cx="666684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(3) Given two grammars G1 and G2, checking L(G1) = L(G2)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not decidabl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5A13-C8FA-44EB-9891-59AEB9C2380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Generation vs. Parsing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ntext-Free Grammars (CFGs) and language </a:t>
            </a:r>
            <a:r>
              <a:rPr b="0" i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generation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rivation tr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mbigu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Parsing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is the inverse of generatio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iven an input string, is it in the language generated by a CF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f so, construct a derivation tree (normally called a </a:t>
            </a:r>
            <a:r>
              <a:rPr b="0" i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parse tree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op-down par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ottom-up par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129C-2B22-4250-8980-109DC3FE2F8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Predictive (Recursive Descent) Parsing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68" name=""/>
          <p:cNvSpPr/>
          <p:nvPr/>
        </p:nvSpPr>
        <p:spPr>
          <a:xfrm>
            <a:off x="430920" y="1905120"/>
            <a:ext cx="2472840" cy="283716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5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 = if E then S else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begin S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print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NUM = N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L ::=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; S 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453480" y="1905120"/>
            <a:ext cx="5392800" cy="392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t tok = getToke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void advance() {tok = getToken();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void eat (int t) {if (tok == t) advance(); else error();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void S() {switch(tok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ase IF:    eat(IF); E(); eat(THEN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S(); eat(ELSE); S(); break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ase BEGIN: eat(BEGIN); S(); L(); break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ase PRINT: eat(PRINT); E(); break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default: error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}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void L() {switch(tok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ase END:  eat(END); break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ase SEMI: eat(SEMI); S(); L(); break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default: error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}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void E() {eat(NUM) ; eat(EQ); eat(NUM);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80560" y="6568920"/>
            <a:ext cx="537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 Black"/>
              </a:rPr>
              <a:t>From Andrew Appel, “Modern Compiler Implementation in Java” page 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895200" y="5791320"/>
            <a:ext cx="45316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 corresponds to a left-most der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ucted in a “top-down” ma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9AFD-492D-47E8-8A92-75185A7AEBB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an we automate this?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3" name=""/>
          <p:cNvSpPr/>
          <p:nvPr/>
        </p:nvSpPr>
        <p:spPr>
          <a:xfrm>
            <a:off x="1683360" y="1447920"/>
            <a:ext cx="5494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[X] = the set of terminal symbols t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gin strings derived from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LOW[X] = the set of terminal symbols t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immediately follow X in s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llable[X] = true of X can derive the empty string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lse otherw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893960" y="874800"/>
            <a:ext cx="474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ach non-terminal X we need to comp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948600" y="4495680"/>
            <a:ext cx="7261200" cy="8240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nullable[Z] = false, for Z in 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nullable[Y1 Y2 … Yk] = nullable[Y1] and … nullable[Yk], for Y(i) in N union 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69960" y="49896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392840" y="5334120"/>
            <a:ext cx="6041880" cy="13107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IRST[Z] = {Z}, for Z in 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IRST[ X Y1 Y2 … Yk] = FIRST[X] if not nullable[X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IRST[ X Y1 Y2 … Yk] =FIRST[X] union FIRST[Y1 … Yk] otherw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EB4E-C13A-4208-9702-F7304E4CDC1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31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Computing First, Follow, and nullable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9" name=""/>
          <p:cNvSpPr/>
          <p:nvPr/>
        </p:nvSpPr>
        <p:spPr>
          <a:xfrm>
            <a:off x="838800" y="1143000"/>
            <a:ext cx="6612120" cy="558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ach terminal symbol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[Z] := {Z}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llable[Z] := fals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ach non-terminal symbo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[X] := FOLLOW[X] := {}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llable[X] := fals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ach production X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Y1 Y2 … Y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1, … Yk are all nullable, or k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nullable[X] := tr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ach i from 1 to k, each j from i + I to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1 … Y(i-1) are all nullable or i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 FIRST[X] := FIRST[X] union FIRST[Y(i)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(i+1) … Yk are all nullable or if i =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FOLLOW[Y(i)] := FOLLOW[Y(i)] union FOLLOW[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(i+1) … Y(j-1) are all nullable or i+1 = 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FOLLOW[Y(i)] := FOLLOW[Y(i)] union FIRST[Y(j)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til there is no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D447-7EDB-4E50-9A52-CFA715BFE12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Eliminating Left Recurs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81" name=""/>
          <p:cNvSpPr/>
          <p:nvPr/>
        </p:nvSpPr>
        <p:spPr>
          <a:xfrm>
            <a:off x="594000" y="2362320"/>
            <a:ext cx="1269000" cy="393444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 = E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E +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E –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 ::= T *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T /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( E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47280" y="1143000"/>
            <a:ext cx="3693600" cy="420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::= T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::= E +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cause proble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ce FIRST(T) will be inclu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FIRST(E + T) ---- so how c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decide which podu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use based on next tok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: eliminate “left recursion”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T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’ ::= + T E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209680" y="5943600"/>
            <a:ext cx="4419720" cy="533520"/>
          </a:xfrm>
          <a:prstGeom prst="rightArrow">
            <a:avLst>
              <a:gd name="adj1" fmla="val 50000"/>
              <a:gd name="adj2" fmla="val 207102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Eliminate left recur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917400" y="1295280"/>
            <a:ext cx="1427400" cy="503172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6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 = E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T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’ ::= + T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– T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 ::= F 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’ ::= * F 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/ F 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( E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 rot="2332800">
            <a:off x="10186560" y="2139480"/>
            <a:ext cx="3033720" cy="3994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F0FA-E10A-4F1B-8F13-3518E5C2887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7.40741E-007 L -1.57361 -0.32176 E">
                                      <p:cBhvr>
                                        <p:cTn id="416" dur="200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First, Follow, nullable table for G6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87" name=""/>
          <p:cNvSpPr/>
          <p:nvPr/>
        </p:nvSpPr>
        <p:spPr>
          <a:xfrm>
            <a:off x="762120" y="2286000"/>
            <a:ext cx="6095880" cy="3429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77480" y="2406600"/>
            <a:ext cx="406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966960" y="1865160"/>
            <a:ext cx="53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llable                    FIRST                      FOL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145160" y="2438280"/>
            <a:ext cx="73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667600" y="2438280"/>
            <a:ext cx="15415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(, ID, NUM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(, ID, NUM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+, -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(, ID, NUM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*, /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(, ID, NUM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875480" y="2438280"/>
            <a:ext cx="1666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), $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), $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), +, -, $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), +, -, $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), *, /, +, -, $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221960" y="1295280"/>
            <a:ext cx="1427400" cy="503172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6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 = E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T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’ ::= + T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– T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 ::= F 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’ ::= * F 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/ F 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( E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27B6-A98B-41DB-A581-410B08F10A5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Predictive Parsing Table for G6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95" name=""/>
          <p:cNvSpPr/>
          <p:nvPr/>
        </p:nvSpPr>
        <p:spPr>
          <a:xfrm>
            <a:off x="533520" y="3124080"/>
            <a:ext cx="8610480" cy="2438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84680" y="3124080"/>
            <a:ext cx="3560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E’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T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535400" y="2666880"/>
            <a:ext cx="64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+                *                 (                 )            ID           NUM       $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26840" y="3124080"/>
            <a:ext cx="10206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E’ ::= + T E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T’ ::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020320" y="3124080"/>
            <a:ext cx="10555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T’ ::= * F T’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599280" y="3124080"/>
            <a:ext cx="8420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S ::= E$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E ::= T E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T ::= F T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F ::= (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087160" y="3124080"/>
            <a:ext cx="5983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E’ ::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T’ ::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885280" y="3124080"/>
            <a:ext cx="8420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S ::= E$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E ::= T E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T ::= F T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F ::=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074720" y="3124080"/>
            <a:ext cx="9900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S ::= E$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E ::= T E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T ::= F T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F ::= 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287560" y="3200400"/>
            <a:ext cx="5983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E’ ::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T’ ::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33880" y="1143000"/>
            <a:ext cx="359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[ X, T ] = Set of produc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61760" y="1523880"/>
            <a:ext cx="536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Y1…Yk   in Table[ X, T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 in FIRST[Y1 … Yk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if (T in FOLLOW[X] and nullable[Y1 … Yk]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502680" y="1219320"/>
            <a:ext cx="2059920" cy="1006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 Black"/>
              </a:rPr>
              <a:t>NOTE: this coul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 Black"/>
              </a:rPr>
              <a:t>lead to more th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 Black"/>
              </a:rPr>
              <a:t>one entry! If so,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 Black"/>
              </a:rPr>
              <a:t>of luck --- can’t d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 Black"/>
              </a:rPr>
              <a:t>recursive descent pars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433880" y="6056280"/>
            <a:ext cx="308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ntries for /, - are similar…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9DCD-CA24-4D4E-932C-54F60D7CFBF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ft-most derivation is constructed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by recursive descent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10" name=""/>
          <p:cNvSpPr/>
          <p:nvPr/>
        </p:nvSpPr>
        <p:spPr>
          <a:xfrm>
            <a:off x="2738520" y="1447920"/>
            <a:ext cx="2969640" cy="49611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S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E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T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E ) T’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T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F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E’ ) T’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T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F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F T’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10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10 )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10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40280" y="1295280"/>
            <a:ext cx="1427400" cy="503172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6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 = E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T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’ ::= + T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– T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 ::= F 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’ ::= * F 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/ F 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( E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898360" y="990720"/>
            <a:ext cx="21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-most der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705720" y="13716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460560" y="1332000"/>
            <a:ext cx="226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 S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‘(‘ call E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‘(‘ call T(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l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9E01-033E-4990-B2D5-F1FC4E7E602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-228600"/>
            <a:ext cx="8229600" cy="952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FG Exampl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744480" y="1371600"/>
            <a:ext cx="12841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E *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E / 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E +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E – 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( E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09480" y="5791320"/>
            <a:ext cx="5807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ID |  NUM |  E * E |  E / E  |  E + E  |  E – E |  ( E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57120" y="5410080"/>
            <a:ext cx="27410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ually will write this 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346560" y="2057400"/>
            <a:ext cx="4037760" cy="20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E is a </a:t>
            </a: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non-terminal symbol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D and NUM are </a:t>
            </a: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lexical 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*, (, ), +, and – are </a:t>
            </a: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terminal symbols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E ::= E + E is called a </a:t>
            </a: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production rule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F157-FDE8-4ABF-92C9-2189E7D94B5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As a stack machine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16" name=""/>
          <p:cNvSpPr/>
          <p:nvPr/>
        </p:nvSpPr>
        <p:spPr>
          <a:xfrm>
            <a:off x="605160" y="1155600"/>
            <a:ext cx="2969640" cy="49611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S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E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T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E ) T’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T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F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E’ ) T’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T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F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F T’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10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10 )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10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705720" y="13716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809240" y="1197000"/>
            <a:ext cx="2725920" cy="49611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                                 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E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                             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T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                          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                           E ) T’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                       T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                   F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                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                     E’ ) T’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               T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           F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          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              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                  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             F T’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10 )  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10 )      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10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F819-036E-47B9-AF4E-5A51A45C28D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-228600"/>
            <a:ext cx="8229600" cy="952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FG Derivation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6" name=""/>
          <p:cNvSpPr/>
          <p:nvPr/>
        </p:nvSpPr>
        <p:spPr>
          <a:xfrm>
            <a:off x="1264320" y="762120"/>
            <a:ext cx="69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1)   E ::= ID |  NUM |  ID | E * E |  E / E  |  E + E  |  E – E |  ( E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0320" y="4038480"/>
            <a:ext cx="2451600" cy="2527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E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* 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</a:t>
            </a:r>
            <a:r>
              <a:rPr b="1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) * 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1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+ E ) *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) *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– E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10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902560" y="175248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3600" y="243828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277400" y="243828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83600" y="320040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869800" y="243828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01680" y="3124080"/>
            <a:ext cx="2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425560" y="3124080"/>
            <a:ext cx="2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688560" y="43434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78920" y="43434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40680" y="43434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975080" y="43434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5029200" y="2133720"/>
            <a:ext cx="83808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6248520" y="2133720"/>
            <a:ext cx="99360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019920" y="213336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4800600" y="2819520"/>
            <a:ext cx="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4114800" y="2819520"/>
            <a:ext cx="53352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5029200" y="2819160"/>
            <a:ext cx="53352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277400" y="320040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495480" y="3124080"/>
            <a:ext cx="2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019720" y="3124080"/>
            <a:ext cx="2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7394400" y="2819520"/>
            <a:ext cx="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6708600" y="2819520"/>
            <a:ext cx="53352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7623000" y="2819160"/>
            <a:ext cx="53352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769200" y="373392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598000" y="373392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114800" y="3581280"/>
            <a:ext cx="53352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5029200" y="3580920"/>
            <a:ext cx="53352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4800600" y="358092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359760" y="373392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191800" y="373392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708600" y="3581280"/>
            <a:ext cx="53352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7623000" y="3580920"/>
            <a:ext cx="53352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94400" y="358092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91080" y="38098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242480" y="3733920"/>
            <a:ext cx="31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962520" y="411444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5791320" y="411444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553080" y="411444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8381880" y="411444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0320" y="1219320"/>
            <a:ext cx="2451600" cy="2527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E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E *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E * (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E * ( E –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E * (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– 10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* ( 2 – 10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) * ( 2 – 10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E +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) * (2 – 10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+ 4 ) * ( 2 – E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10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151960" y="5378400"/>
            <a:ext cx="272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he Derivation Tree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 17 + 4 ) * (2 – 10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395800" y="1295280"/>
            <a:ext cx="14090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Rightmo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der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30200" y="4191120"/>
            <a:ext cx="12704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Leftmo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der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433F-1D52-4820-A0BD-95A83B72950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More formally, …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A CFG is a quadruple G = (N, T, R, S) whe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N is the set of </a:t>
            </a:r>
            <a:r>
              <a:rPr b="0" i="1" lang="en-US" sz="2000" spc="-1" strike="noStrike">
                <a:solidFill>
                  <a:srgbClr val="333399"/>
                </a:solidFill>
                <a:latin typeface="Arial Black"/>
              </a:rPr>
              <a:t>non-terminal symb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T  is the set of </a:t>
            </a:r>
            <a:r>
              <a:rPr b="0" i="1" lang="en-US" sz="2000" spc="-1" strike="noStrike">
                <a:solidFill>
                  <a:srgbClr val="333399"/>
                </a:solidFill>
                <a:latin typeface="Arial Black"/>
              </a:rPr>
              <a:t>terminal symbols 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(N and T disjo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S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N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Times New Roman"/>
              </a:rPr>
              <a:t>  is the </a:t>
            </a:r>
            <a:r>
              <a:rPr b="0" i="1" lang="en-US" sz="2000" spc="-1" strike="noStrike">
                <a:solidFill>
                  <a:srgbClr val="333399"/>
                </a:solidFill>
                <a:latin typeface="Arial Black"/>
                <a:ea typeface="Times New Roman"/>
              </a:rPr>
              <a:t>start symb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Times New Roman"/>
              </a:rPr>
              <a:t>R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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N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Times New Roman"/>
              </a:rPr>
              <a:t>(N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Times New Roman"/>
              </a:rPr>
              <a:t>T)*  is a set of r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Example: The grammar of nested parentheses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G = (N, T, R, S) whe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N = {S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T ={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</a:rPr>
              <a:t>(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,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</a:rPr>
              <a:t>)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Times New Roman"/>
              </a:rPr>
              <a:t>R 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={ (S,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</a:rPr>
              <a:t>(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S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</a:rPr>
              <a:t>))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, (S, SS), (S, ) }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24040" y="5715000"/>
            <a:ext cx="218340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S ::= (S) | SS |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83040" y="5751360"/>
            <a:ext cx="290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will normally write R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65A3-44F3-4ADA-8615-5D5BAE8B5BF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Derivations, more formally…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tart from start symbol (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roductions are used to derive a sequence of tokens from the start symb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For arbitrary strings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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comprised of both terminal and non-terminal symbols, 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nd a production A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, 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 single step of derivation is 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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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i.e.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, substitute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for an occurrence of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*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means that b can be derived from a in 0 or more single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means that b can be derived from a in 1 or more single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7B48-F698-48E1-A7BB-460320B114C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L(G) = The Language Generated by Grammar G</a:t>
            </a:r>
            <a:endParaRPr b="0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295280" y="2971800"/>
                <a:ext cx="57913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w</m:t>
                        </m:r>
                        <m:r>
                          <m:t xml:space="preserve">∈</m:t>
                        </m:r>
                        <m:r>
                          <m:t xml:space="preserve">T</m:t>
                        </m:r>
                        <m:r>
                          <m:t xml:space="preserve">∗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⇒</m:t>
                        </m:r>
                        <m:r>
                          <m:t xml:space="preserve">+</m:t>
                        </m:r>
                        <m:r>
                          <m:t xml:space="preserve">w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1101600" y="1905120"/>
            <a:ext cx="679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he language generated by G is the set of all terminal string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derivable from the start symbol 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436760" y="4419720"/>
            <a:ext cx="570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or any subset W of T*, if there exists a CFG G su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hat L(G) = W, then W is called a Context-Fre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Language (CFL) over 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0679-6DFD-49C6-A98D-72D27CF5F38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0528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mbiguity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2" name=""/>
          <p:cNvSpPr/>
          <p:nvPr/>
        </p:nvSpPr>
        <p:spPr>
          <a:xfrm>
            <a:off x="2778480" y="175248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153320" y="243828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59160" y="236232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745720" y="243828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25680" y="35053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454480" y="35053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905120" y="2133720"/>
            <a:ext cx="83808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3123720" y="2133720"/>
            <a:ext cx="99396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2895480" y="213336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44760" y="289548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73560" y="289548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990360" y="2743200"/>
            <a:ext cx="53316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1904760" y="2742840"/>
            <a:ext cx="53316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676520" y="274284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67000" y="29718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838080" y="327636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666880" y="327636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54680" y="30481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4267080" y="281916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283800" y="175248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064480" y="236232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267600" y="24382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969080" y="2971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409720" y="2133720"/>
            <a:ext cx="83844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6629400" y="2133720"/>
            <a:ext cx="99360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6400800" y="213336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5181480" y="274284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655400" y="236232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721920" y="35053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550720" y="35053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741000" y="289548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569800" y="289548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086600" y="2743200"/>
            <a:ext cx="53352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8001000" y="2742840"/>
            <a:ext cx="53352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7772400" y="274284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546320" y="297180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934320" y="327636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8763120" y="327636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910520" y="4038480"/>
            <a:ext cx="5735880" cy="11304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Both derivation trees correspond to the str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                         </a:t>
            </a: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1 + 2 *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546200" y="5562720"/>
            <a:ext cx="646128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This type of ambiguity will cause problems when we try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go from strings to derivation tre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112040" y="1066680"/>
            <a:ext cx="69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1)   E ::= ID |  NUM |  ID | E * E |  E / E  |  E + E  |  E – E |  ( E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2419-BE77-4639-B0AC-F4E9D3BA000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olution: Modify the Grammar!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4" name=""/>
          <p:cNvSpPr/>
          <p:nvPr/>
        </p:nvSpPr>
        <p:spPr>
          <a:xfrm>
            <a:off x="289440" y="1752480"/>
            <a:ext cx="1269000" cy="393444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 = E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E +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E –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 ::= T *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T /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( E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16760" y="167652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97800" y="228600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124600" y="22860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02400" y="28954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4343400" y="2057400"/>
            <a:ext cx="83808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5562720" y="2057400"/>
            <a:ext cx="99360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5334120" y="205704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4114800" y="266652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588360" y="228600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731200" y="40384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483680" y="3429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673960" y="281952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500240" y="2819520"/>
            <a:ext cx="29952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6019560" y="2666880"/>
            <a:ext cx="53316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6933960" y="2666520"/>
            <a:ext cx="53316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705720" y="266652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479280" y="289548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5867280" y="320004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7696080" y="320004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671440" y="3429000"/>
            <a:ext cx="29952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867280" y="380952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141800" y="4876920"/>
            <a:ext cx="3568680" cy="1435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This is the </a:t>
            </a:r>
            <a:r>
              <a:rPr b="0" i="1" lang="en-US" sz="2000" spc="-1" strike="noStrike" u="sng">
                <a:solidFill>
                  <a:srgbClr val="333399"/>
                </a:solidFill>
                <a:uFillTx/>
                <a:latin typeface="Arial Black"/>
              </a:rPr>
              <a:t>unique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deriv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tree for the str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            </a:t>
            </a: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1 + 2 * 3$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81920" y="6178680"/>
            <a:ext cx="2347920" cy="64260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ote: L(G1) = L(G2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an you prove it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755720" y="259092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xpress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754280" y="373392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er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678320" y="480060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acto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12960" y="194148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tart, $ = EO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17480" y="1066680"/>
            <a:ext cx="30564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5334120" y="144756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0833-6F4F-4C29-B720-881E56ABBA1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Famously Ambiguou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5" name=""/>
          <p:cNvSpPr/>
          <p:nvPr/>
        </p:nvSpPr>
        <p:spPr>
          <a:xfrm>
            <a:off x="1168200" y="1447920"/>
            <a:ext cx="645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(G3)  S ::= if E then S else S  |   if E then S |  blah-bla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221200" y="2209680"/>
            <a:ext cx="4008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What do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f e1 then if e2 then s1 else s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mean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017000" y="4114800"/>
            <a:ext cx="3056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5920" y="4876920"/>
            <a:ext cx="39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38720" y="4876920"/>
            <a:ext cx="72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40320" y="4876920"/>
            <a:ext cx="3070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41240" y="4876920"/>
            <a:ext cx="3056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016640" y="5715000"/>
            <a:ext cx="39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00840" y="5715000"/>
            <a:ext cx="72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78400" y="5715000"/>
            <a:ext cx="3070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227040" y="5715000"/>
            <a:ext cx="3056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711960" y="5715000"/>
            <a:ext cx="65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446000" y="5715000"/>
            <a:ext cx="3056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228240" y="4419720"/>
            <a:ext cx="76212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1371240" y="4419720"/>
            <a:ext cx="121932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 flipV="1">
            <a:off x="1371600" y="4419720"/>
            <a:ext cx="45720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1143000" y="4495320"/>
            <a:ext cx="0" cy="3812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 flipV="1">
            <a:off x="2895480" y="5181480"/>
            <a:ext cx="457200" cy="53352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895480" y="5181480"/>
            <a:ext cx="1067040" cy="53352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2895120" y="5181480"/>
            <a:ext cx="1676520" cy="53352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2666880" y="5257800"/>
            <a:ext cx="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1219320" y="5181480"/>
            <a:ext cx="129528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81080" y="5257800"/>
            <a:ext cx="53352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51120" y="4114800"/>
            <a:ext cx="3056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826520" y="4952880"/>
            <a:ext cx="39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210720" y="4952880"/>
            <a:ext cx="72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588280" y="4952880"/>
            <a:ext cx="3070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036920" y="4952880"/>
            <a:ext cx="3056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21840" y="4952880"/>
            <a:ext cx="65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256240" y="4952880"/>
            <a:ext cx="3056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 flipV="1">
            <a:off x="6705720" y="4419360"/>
            <a:ext cx="457200" cy="53316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 flipV="1">
            <a:off x="6705360" y="4419360"/>
            <a:ext cx="1066680" cy="53316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6705720" y="4419360"/>
            <a:ext cx="1676160" cy="53316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6477120" y="4495320"/>
            <a:ext cx="0" cy="3812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9200" y="4419720"/>
            <a:ext cx="129528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5791320" y="4495680"/>
            <a:ext cx="53316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023520" y="5715000"/>
            <a:ext cx="39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636320" y="5715000"/>
            <a:ext cx="72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937920" y="5715000"/>
            <a:ext cx="3070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538840" y="5715000"/>
            <a:ext cx="3056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6225840" y="5257800"/>
            <a:ext cx="76212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 flipV="1">
            <a:off x="7368840" y="5257800"/>
            <a:ext cx="121932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 flipV="1">
            <a:off x="7369200" y="5257800"/>
            <a:ext cx="45720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7140600" y="5334120"/>
            <a:ext cx="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72240" y="4006800"/>
            <a:ext cx="5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653C-4CF5-4B0B-A6E7-ACCCB731B76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1-26T10:43:48Z</dcterms:modified>
  <cp:revision>269</cp:revision>
  <dc:subject/>
  <dc:title>Slide 1</dc:title>
</cp:coreProperties>
</file>