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E034-7633-4A4E-88B8-257D7CA27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2E51-5175-4C02-83BB-32E9275A9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F6D-A2EE-4C84-BB38-9C1FBB14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1F0-D10A-409E-AC96-90A9CEEE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D09-20D1-4A1D-8D52-1CE12D7B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8C1C-7C11-4BDB-A85C-AAE66F45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041-AAF8-49F8-868E-D6BB2B80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5400-A968-4DEB-B773-82F06473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B2B3-D44B-450D-A286-1C561561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FF3E-903B-4F54-B05F-E0936242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B4F-DE9E-4A9C-9EA5-15F64BAB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F707-C8D1-4684-AF4F-B5EE6C66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2D73-A79C-4318-846D-4537DDB5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75EC-79B5-4962-8FB5-A4A49943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7F62-48D0-42C4-A2D8-62BD60734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ava Virtual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6589-D161-4A39-A482-A738545CC8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0" y="838080"/>
            <a:ext cx="274320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3920" y="0"/>
            <a:ext cx="7772400" cy="55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rganization of JV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44792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05740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tan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2666880"/>
            <a:ext cx="259056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tho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838080"/>
            <a:ext cx="106704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838080"/>
            <a:ext cx="106668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838080"/>
            <a:ext cx="121896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733920"/>
            <a:ext cx="2286000" cy="228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4038480"/>
            <a:ext cx="1676520" cy="11430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4343400"/>
            <a:ext cx="167616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o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5486400"/>
            <a:ext cx="1904760" cy="9907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loud"/>
          <p:cNvSpPr/>
          <p:nvPr/>
        </p:nvSpPr>
        <p:spPr>
          <a:xfrm>
            <a:off x="0" y="3581280"/>
            <a:ext cx="2286000" cy="12956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3962520"/>
            <a:ext cx="190512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C, FP, S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31400">
            <a:off x="1988640" y="461304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9781400">
            <a:off x="1990800" y="514332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35053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5638680"/>
            <a:ext cx="167652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3429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AF7-A413-4505-8498-C4DFB9C639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Load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4880" y="990360"/>
            <a:ext cx="87627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ing and importing the binary data for a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Ver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nsuring the correctness of the imported 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Prepa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cating memory for class variables and initializing the memory to default 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Re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ansforming symbolic references from the type into direct refere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iti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voking Java code that initializes class variables to their proper starting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B65B-F4C7-4DD7-8C19-05597C7B88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File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337760"/>
            <a:ext cx="3581280" cy="490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 of cons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superclass,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,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fields 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type/sign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 (private, public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code for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13320" y="1353960"/>
            <a:ext cx="6198840" cy="4865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Fi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4 mag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in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aj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constant_pool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p_info constant_pool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constant_pool_count-1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ccess_flag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this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super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[interface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fiel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eld_info fields[fiel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etho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_info methods[metho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ttribut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ttribute_info attributes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attributes_count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8C5-B1D3-4F5D-82F6-3478FDF57A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04840"/>
            <a:ext cx="419112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f(int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=0; i&lt;x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56272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tur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733920"/>
            <a:ext cx="167652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3124080"/>
            <a:ext cx="16765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1066680"/>
            <a:ext cx="1676520" cy="2057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5400" y="90972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S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89520" y="3114720"/>
            <a:ext cx="11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50040" y="556416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F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86600" y="31240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106668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71880" y="159084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0CE5-ACF6-4116-8F95-0A223C2BAD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– Each Thread Has its own Stack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838080"/>
            <a:ext cx="8077320" cy="129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438280"/>
            <a:ext cx="807732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447920"/>
            <a:ext cx="16002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1447920"/>
            <a:ext cx="1600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447920"/>
            <a:ext cx="1600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3733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4876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590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3733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590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3733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876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9903-6554-4DD2-9574-5516F008DA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Java objects are allocated in the 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applications cannot explicitly free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rbage Coll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voked from time to time automatically to reclaim the objects that are no longer needed by th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p is shared by all Java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9BFB-A3A4-4650-948B-BF5F6997B8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Objects in the 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286000"/>
            <a:ext cx="2971800" cy="266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20040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2666880"/>
            <a:ext cx="2210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838080"/>
            <a:ext cx="441936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1066680"/>
            <a:ext cx="167616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14479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9051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23623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28195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43434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4724280"/>
            <a:ext cx="167652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36576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4038480"/>
            <a:ext cx="167652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373392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2971800"/>
            <a:ext cx="304560" cy="457200"/>
          </a:xfrm>
          <a:custGeom>
            <a:avLst/>
            <a:gdLst/>
            <a:ahLst/>
            <a:rect l="l" t="t" r="r" b="b"/>
            <a:pathLst>
              <a:path w="248" h="336">
                <a:moveTo>
                  <a:pt x="248" y="336"/>
                </a:moveTo>
                <a:cubicBezTo>
                  <a:pt x="132" y="268"/>
                  <a:pt x="16" y="200"/>
                  <a:pt x="8" y="144"/>
                </a:cubicBezTo>
                <a:cubicBezTo>
                  <a:pt x="0" y="88"/>
                  <a:pt x="176" y="24"/>
                  <a:pt x="20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0240" y="2819520"/>
            <a:ext cx="863640" cy="1143000"/>
          </a:xfrm>
          <a:custGeom>
            <a:avLst/>
            <a:gdLst/>
            <a:ahLst/>
            <a:rect l="l" t="t" r="r" b="b"/>
            <a:pathLst>
              <a:path w="544" h="720">
                <a:moveTo>
                  <a:pt x="544" y="720"/>
                </a:moveTo>
                <a:cubicBezTo>
                  <a:pt x="336" y="620"/>
                  <a:pt x="128" y="520"/>
                  <a:pt x="64" y="432"/>
                </a:cubicBezTo>
                <a:cubicBezTo>
                  <a:pt x="0" y="344"/>
                  <a:pt x="80" y="264"/>
                  <a:pt x="160" y="192"/>
                </a:cubicBezTo>
                <a:cubicBezTo>
                  <a:pt x="240" y="120"/>
                  <a:pt x="392" y="60"/>
                  <a:pt x="54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1219320"/>
            <a:ext cx="1371600" cy="2209680"/>
          </a:xfrm>
          <a:custGeom>
            <a:avLst/>
            <a:gdLst/>
            <a:ahLst/>
            <a:rect l="l" t="t" r="r" b="b"/>
            <a:pathLst>
              <a:path w="864" h="1392">
                <a:moveTo>
                  <a:pt x="864" y="0"/>
                </a:moveTo>
                <a:cubicBezTo>
                  <a:pt x="792" y="112"/>
                  <a:pt x="720" y="224"/>
                  <a:pt x="672" y="384"/>
                </a:cubicBezTo>
                <a:cubicBezTo>
                  <a:pt x="624" y="544"/>
                  <a:pt x="688" y="792"/>
                  <a:pt x="576" y="960"/>
                </a:cubicBezTo>
                <a:cubicBezTo>
                  <a:pt x="464" y="1128"/>
                  <a:pt x="96" y="1320"/>
                  <a:pt x="0" y="13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3962520"/>
            <a:ext cx="1066680" cy="6858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672"/>
                </a:moveTo>
                <a:cubicBezTo>
                  <a:pt x="560" y="512"/>
                  <a:pt x="448" y="352"/>
                  <a:pt x="336" y="240"/>
                </a:cubicBezTo>
                <a:cubicBezTo>
                  <a:pt x="224" y="128"/>
                  <a:pt x="56" y="4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21240" y="3048120"/>
            <a:ext cx="584280" cy="1447560"/>
          </a:xfrm>
          <a:custGeom>
            <a:avLst/>
            <a:gdLst/>
            <a:ahLst/>
            <a:rect l="l" t="t" r="r" b="b"/>
            <a:pathLst>
              <a:path w="368" h="864">
                <a:moveTo>
                  <a:pt x="368" y="0"/>
                </a:moveTo>
                <a:cubicBezTo>
                  <a:pt x="216" y="216"/>
                  <a:pt x="64" y="432"/>
                  <a:pt x="32" y="576"/>
                </a:cubicBezTo>
                <a:cubicBezTo>
                  <a:pt x="0" y="720"/>
                  <a:pt x="88" y="792"/>
                  <a:pt x="176" y="8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6800" y="2133720"/>
            <a:ext cx="1079280" cy="1676160"/>
          </a:xfrm>
          <a:custGeom>
            <a:avLst/>
            <a:gdLst/>
            <a:ahLst/>
            <a:rect l="l" t="t" r="r" b="b"/>
            <a:pathLst>
              <a:path w="680" h="1056">
                <a:moveTo>
                  <a:pt x="104" y="0"/>
                </a:moveTo>
                <a:cubicBezTo>
                  <a:pt x="392" y="96"/>
                  <a:pt x="680" y="192"/>
                  <a:pt x="680" y="336"/>
                </a:cubicBezTo>
                <a:cubicBezTo>
                  <a:pt x="680" y="480"/>
                  <a:pt x="208" y="752"/>
                  <a:pt x="104" y="864"/>
                </a:cubicBezTo>
                <a:cubicBezTo>
                  <a:pt x="0" y="976"/>
                  <a:pt x="48" y="976"/>
                  <a:pt x="56" y="1008"/>
                </a:cubicBezTo>
                <a:cubicBezTo>
                  <a:pt x="64" y="1040"/>
                  <a:pt x="136" y="1048"/>
                  <a:pt x="152" y="10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2806560"/>
            <a:ext cx="3124080" cy="1168560"/>
          </a:xfrm>
          <a:custGeom>
            <a:avLst/>
            <a:gdLst/>
            <a:ahLst/>
            <a:rect l="l" t="t" r="r" b="b"/>
            <a:pathLst>
              <a:path w="1968" h="736">
                <a:moveTo>
                  <a:pt x="1968" y="680"/>
                </a:moveTo>
                <a:cubicBezTo>
                  <a:pt x="1536" y="708"/>
                  <a:pt x="1104" y="736"/>
                  <a:pt x="864" y="680"/>
                </a:cubicBezTo>
                <a:cubicBezTo>
                  <a:pt x="624" y="624"/>
                  <a:pt x="616" y="448"/>
                  <a:pt x="528" y="344"/>
                </a:cubicBezTo>
                <a:cubicBezTo>
                  <a:pt x="440" y="240"/>
                  <a:pt x="424" y="112"/>
                  <a:pt x="336" y="56"/>
                </a:cubicBezTo>
                <a:cubicBezTo>
                  <a:pt x="248" y="0"/>
                  <a:pt x="124" y="4"/>
                  <a:pt x="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2F64-C19D-4AB7-833A-5B522A6417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ytecode Interpret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3956040" y="1417680"/>
            <a:ext cx="5187960" cy="415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program not en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etch next bytecode =&gt;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witch(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ad an integer from th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array and push on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f current operand stack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STO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p an integer from the top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 operand stack and 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t into the local variable arr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A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w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8040" y="2071800"/>
            <a:ext cx="3403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need extra memory to store compil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slower than execution of nativ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F30D-598C-4962-A109-D8AD3CEB01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ust-In-Tim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33000" y="649080"/>
            <a:ext cx="8381880" cy="2122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compiles bytecode into native code at runtime, usually in method gran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native code is much faster than interpretation of 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ation is time consuming and may slow down th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offs between execution time and compil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3640" y="5757840"/>
            <a:ext cx="22860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3640" y="4691160"/>
            <a:ext cx="22860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3640" y="34718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0000" y="298764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8640" y="4336920"/>
            <a:ext cx="1676160" cy="1143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0520" y="5708520"/>
            <a:ext cx="4876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0520" y="3956040"/>
            <a:ext cx="2286000" cy="1752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51560" y="27860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81800" y="372744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62840" y="471816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30840" y="30243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JIT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D33-93CC-4507-87E7-F64C5E9807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daptiv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5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less than 20% of the methods account for more than 80% of execu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contains loop with large number of iteratio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that are frequently invo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1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only compile the methods where the application spends a lo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2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perform advanced compiler optimization for the hottest methods, simple or no compiler optimization for less ho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BF8-846B-49FC-B2BC-30225F198F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system overview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9280" y="1428840"/>
            <a:ext cx="5260680" cy="436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65160" y="3608280"/>
            <a:ext cx="4096080" cy="1440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31200" y="3632040"/>
            <a:ext cx="225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JVM do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depend on 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 independ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583-B291-418D-9259-B26B349573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Adaptive Compiler Work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1600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ree thresholds T1, T2 (T1&lt;T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ethod has a counter that is initialized to 0. Whenever the method is invoked, increase its counter b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s with counter lower than T1 are executed using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1, compile this method with simple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2, recompile this method with advanced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87C3-F804-4209-B39C-0F9EC06A92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in the JVM Spec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343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tecodes – the instruction set for Java Virtual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File Format – The platform independent representation of Java binar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Rules – the algorithm for identifying programs that cannot compromise the integrity of the J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5080" y="5397480"/>
            <a:ext cx="6974640" cy="1068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VM Specification does not specif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a JVM is imple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1224-1FFC-4D08-80EF-6296DAC39A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: typed instructions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212760" y="974880"/>
            <a:ext cx="893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are explicitly typed: different opCodes for instructions for integers, floats, arrays and referenc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is is reflected by a naming convention in the first letter of the opCode mnemon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67040" y="2936880"/>
            <a:ext cx="109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l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d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7800" y="2968560"/>
            <a:ext cx="298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ger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ong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loat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ubl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ference-typ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90EF-1893-40F9-B4C3-4EF352475B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 set: kinds of operan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212760" y="1195560"/>
            <a:ext cx="893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have three kinds of opera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top of the operan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bytes following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part of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 instructions may have different “forms” supporting different kinds of oper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07800" y="3798720"/>
            <a:ext cx="146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4960" y="34988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30000" y="34876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inary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44800" y="3830760"/>
            <a:ext cx="5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38800" y="3832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38800" y="4213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38800" y="4594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38800" y="4975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38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44800" y="5418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1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64120" y="5418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07800" y="5322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 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54920" y="613080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load 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ush the n-th local var on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012-0E94-4D06-A675-02E843926C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exampl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82200" y="1390680"/>
            <a:ext cx="55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add, ladd, fadd, d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ub, lsub, fsub, d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ul, lmul, fmul, d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760" y="91440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ithmet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" y="2608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3880" y="316872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2l, i2f, i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f, l2d, f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i, d2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080" y="451476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nd stack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p, pop2, dup, dup2, dup_x1, swa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conditional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oto, goto_w, jsr, re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al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eq, iflt, ifg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EA73-BBC3-4213-9FE5-A37846EAB0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…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58920"/>
            <a:ext cx="8686800" cy="311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 invo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: usual instruction for calling a method on an obj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used when the called method is declared in an interface. (requires different kind of method look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pe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alling things such as constructors. These are not dynamically dispatched (this instruction is also known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non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alling methods that have the “static” modifier (these methods “belong” to a class, rather an 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ing from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, ireturn, lreturn, areturn, f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710240"/>
            <a:ext cx="868680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class instance (objec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arr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reating arrays of primitiv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ewarray, multia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arrays of referenc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6CE4-17F5-47E1-800C-C6308B9B96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oto instruction – 3 and 5 byte vers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83960" y="3351240"/>
            <a:ext cx="45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8) |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78120" y="1231920"/>
            <a:ext cx="1279440" cy="13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8120" y="168264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87480" y="208296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6840" y="1278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7000" y="1461960"/>
            <a:ext cx="82872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42000" y="1308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55080" y="1714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51840" y="21366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41600" y="3309840"/>
            <a:ext cx="33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24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16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 8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30840" y="1203480"/>
            <a:ext cx="12798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30840" y="165420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0560" y="205416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09560" y="12492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80080" y="1433520"/>
            <a:ext cx="8287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5440" y="1279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60280" y="28065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68200" y="2097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6160" y="244152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279252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06360" y="2452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7560" y="17161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36160" y="4254480"/>
            <a:ext cx="40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signed 2’s compliment representation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779200" y="2498400"/>
            <a:ext cx="341280" cy="3024360"/>
          </a:xfrm>
          <a:custGeom>
            <a:avLst/>
            <a:gdLst>
              <a:gd name="textAreaLeft" fmla="*/ 0 w 341280"/>
              <a:gd name="textAreaRight" fmla="*/ 123120 w 34128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95120" y="484812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7263000" y="3629520"/>
            <a:ext cx="341280" cy="1901880"/>
          </a:xfrm>
          <a:custGeom>
            <a:avLst/>
            <a:gdLst>
              <a:gd name="textAreaLeft" fmla="*/ 0 w 341280"/>
              <a:gd name="textAreaRight" fmla="*/ 123120 w 341280"/>
              <a:gd name="textAreaTop" fmla="*/ 49320 h 1901880"/>
              <a:gd name="textAreaBottom" fmla="*/ 1852560 h 190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9640" y="5530680"/>
            <a:ext cx="38412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target address must be that of 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pcode of an instruction with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ethod that contai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is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(or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) instru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970B-BC5F-487D-8BBC-DB23FCEFD9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4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Black"/>
              </a:rPr>
              <a:t>Fibonacci Forever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838440" y="358920"/>
            <a:ext cx="761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www.artima.com/insidejvm/applets/FibonacciForev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560" y="1636560"/>
            <a:ext cx="310680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Fibonacci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atic void calcSequence(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fiboNum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or (;;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96760" y="793800"/>
            <a:ext cx="308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 1, 2, 3, 5, 8, 13, 21, 34, 55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2760" y="1428840"/>
            <a:ext cx="594144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0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 lstore_0  % Pop long into local vars 0 &amp; 1: 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2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3 lstore_2  % Pop long into local vars 2 &amp; 3: 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4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5 lstore 4  % Pop long into local vars 4 &amp; 5: long fiboNum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7 lload_0   % Push long from local vars 0 &amp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8 lload_2 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9 ladd      % Pop two longs, add them, push res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0 lstore 4 % Pop long into local vars 4 &amp; 5: 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2 lload_2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3 lstore_0 % Pop long into local vars 0 &amp; 1: 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4 lload 4  % Push long from local vars 4 &amp;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6 lstore_2 % Pop long into local vars 2 &amp; 3: 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7 goto 7   % Jump back to offset 7: for (;;) {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2280" y="4941720"/>
            <a:ext cx="54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a 3f 0a 41 0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e 20 6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3f 16 04 4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7 ff f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7840" y="4948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 CO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6680" y="52578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49200" y="525636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6360" y="5254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oto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5516640"/>
            <a:ext cx="22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“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sembles” to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goto -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D2B-B858-4E9A-AEF9-2676ACFE73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8Z</dcterms:modified>
  <cp:revision>288</cp:revision>
  <dc:subject/>
  <dc:title>Slide 1</dc:title>
</cp:coreProperties>
</file>