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6340-760A-4870-BD52-BB6D169D5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DB3B-9DEF-408E-B98F-D7200885D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603-0D3C-452D-95FA-9776AA1B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DCB-F731-4608-83D7-93706DA8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0DB-8F91-4CC5-860E-5C015C7D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ACBF-B006-403F-9A69-5A4DEBC2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BA4E-0464-480F-AD87-99C6A1B0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4FFA-01F4-404D-BF28-404DFCCA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8FBE-4E00-4732-8080-B6CE2550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1369-2811-4167-A788-705D4449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23E8-588E-474C-BA77-D15DDA13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4B50-EF90-4C6D-9CEC-EDB178A0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FBAC-0A7D-4840-9639-CF15D08E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A524-F993-4ACD-B311-FBFA621E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CC10-FE65-4518-B52A-88AE4CD68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41120" y="0"/>
            <a:ext cx="9285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59120" y="-360"/>
            <a:ext cx="2652840" cy="193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Lecture 14</a:t>
            </a:r>
            <a:br>
              <a:rPr sz="1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arbage Collectio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Lent Term 2007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imothy G. Griffi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University of Cambridge </a:t>
            </a:r>
            <a:endParaRPr b="0" lang="en-US" sz="1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2E3-1C55-47EA-A766-CB7B000FE7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ference counting can’t detect cycles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63040" y="2631960"/>
            <a:ext cx="552240" cy="6048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6" idx="3"/>
            <a:endCxn id="159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558-6A46-4C1D-9317-8E17DE02BD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s and C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/time overhead to maintain cou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leakage when cycles in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re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 long pauses to collect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s many useful appl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 File System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mbolic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’s RMI management of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Functional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A67B-2E47-4892-AD7E-73824E6F10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ark and Swee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wo-phas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rk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pth fi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versal of object graph from the root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weep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terate over entire heap, adding the unmarked data back onto the fre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83C-BFFE-4E2D-83C0-6980831ACA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st of Mark Swee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17520" y="1060560"/>
            <a:ext cx="82296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mark ph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R) where R is the # of reachabl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1 * R (c1 may be 10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sweep ph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H) where H is the # of words in entire 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2 * H (c2 may be 3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good” = each collection returns H - R words reclai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rtized cost = time-collecting/amount-reclaim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c1 * R) + (c2 * H)) / (H -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 is close to H, then each collection reclaims little spac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/ H must be sufficiently small or GC cost is hig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dynamically adjust. Say, if R / H is larger than .5, increase heap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40A-074E-44F2-AD0E-651AD847FE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ther Probl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th-first search is usually implemented as a recursiv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stack space proportional to the longest path in the graph of reachable ob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activation record/node in th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tion records are b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heap is one long linked list, the stack space used in the algorithm will be greater than the heap siz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do? Pointer reversal [See Appe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39C0-9334-44C1-AFE0-B45E95755D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Colle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use 2 he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used b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unused until GC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he roots &amp; traverse the reach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reachable data from the active heap (from-space) to the other heap (to-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objects are left behind in fro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 switch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F418-A954-4B13-9343-256D68863D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Colle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57000" y="175248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07840" y="1752480"/>
            <a:ext cx="21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7000" y="3794040"/>
            <a:ext cx="14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447920" y="365724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114800"/>
            <a:ext cx="6094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41911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4191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3581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3124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3352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3505320"/>
            <a:ext cx="457200" cy="1371600"/>
          </a:xfrm>
          <a:custGeom>
            <a:avLst/>
            <a:gdLst/>
            <a:ahLst/>
            <a:rect l="l" t="t" r="r" b="b"/>
            <a:pathLst>
              <a:path w="288" h="864">
                <a:moveTo>
                  <a:pt x="0" y="864"/>
                </a:moveTo>
                <a:cubicBezTo>
                  <a:pt x="144" y="768"/>
                  <a:pt x="288" y="672"/>
                  <a:pt x="288" y="528"/>
                </a:cubicBezTo>
                <a:cubicBezTo>
                  <a:pt x="288" y="384"/>
                  <a:pt x="48" y="8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200400"/>
            <a:ext cx="24156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48" y="192"/>
                </a:moveTo>
                <a:cubicBezTo>
                  <a:pt x="100" y="160"/>
                  <a:pt x="152" y="128"/>
                  <a:pt x="144" y="96"/>
                </a:cubicBezTo>
                <a:cubicBezTo>
                  <a:pt x="136" y="64"/>
                  <a:pt x="6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52578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50292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48006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45720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43434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472428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cubicBezTo>
                  <a:pt x="96" y="348"/>
                  <a:pt x="192" y="264"/>
                  <a:pt x="192" y="192"/>
                </a:cubicBezTo>
                <a:cubicBezTo>
                  <a:pt x="192" y="120"/>
                  <a:pt x="96" y="6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44197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192"/>
                </a:moveTo>
                <a:cubicBezTo>
                  <a:pt x="48" y="160"/>
                  <a:pt x="96" y="128"/>
                  <a:pt x="96" y="96"/>
                </a:cubicBezTo>
                <a:cubicBezTo>
                  <a:pt x="96" y="64"/>
                  <a:pt x="4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3886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4B5-6C15-4F6B-8241-6DDF9FB6A1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GC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&amp; collects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-time proportional to # liv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ompaction eliminates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type information required (pointer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bits take extra space; normally use head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 memory used as program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we anticipate live data will only be a small fragment of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ntil 70%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 = 70% heap; to-space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GC pauses = bad for interactive, real-time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855-1A74-463B-82DD-193F08EAE4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BSERVATION: for a copying garbage collector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14332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28560" y="4532400"/>
            <a:ext cx="7764480" cy="174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80%  to 98% new objects die very quick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 object that has survived several collections has a bigger chance to become a long-lived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t’s a inefficient that long-lived objects be copied over and over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A90-9DEF-4B80-A0F8-5003076C6C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DEA: Generational garbage collec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43680" cy="3505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74560" y="4870440"/>
            <a:ext cx="769644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egregate objects into multiple areas by age, and collect areas containing older objects less often than the younger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75B4-1C7E-4384-9FD9-091C091008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Garbage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170000" y="113364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33120" y="2135160"/>
            <a:ext cx="6715800" cy="703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value is garbage if it will not be used in any subsequ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utation by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040" y="4373640"/>
            <a:ext cx="7916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General, determining what is and is not garbage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 decid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8480" y="5680080"/>
            <a:ext cx="38232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Read Chapter 13 of Ap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88D4-9DDD-4A9D-86B2-7FDC11805E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ther issues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3600" y="1366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en do we </a:t>
            </a:r>
            <a:r>
              <a:rPr b="0" lang="en-US" sz="1800" spc="-1" strike="noStrike">
                <a:solidFill>
                  <a:srgbClr val="009999"/>
                </a:solidFill>
                <a:latin typeface="Arial Black"/>
              </a:rPr>
              <a:t>promot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objects from young generation to old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ually after an object survives a collection, it will be promo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eed to keep track of older objects pointing to newer on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ow big should the generations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ppel says each should be exponentially larger than the l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en do we collect the old gener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fter several </a:t>
            </a: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minor collection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we do a </a:t>
            </a: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major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ometimes different GC algorithms are used for the new and older gen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y? Because the have different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pying collection for the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ss than 10% of the new data is usually 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pying collection cost is proportional to the liv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rk-sweep for the 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09E1-EEE1-43BC-9322-FC71A2CD75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olu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3660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 programming language so the problem goes away!  That is, use FORTR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programmer to worry about it (use malloc and free in C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and Swe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ther techniqu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C8B4-BD57-4FB4-AC3A-19E8EB23D0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strict Languages? NO WAY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programming language allows programmers to allocate new storage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cords, arrays, tuples, objects, clos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language needs facilities for reclaiming and recycling the storage used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S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’s usually the most complex aspect of the run-time system for any modern language (Java, ML, Lisp, Scheme, Modu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F060-1AFC-46DC-9A01-B1626641E1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plicit M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ibrary manages memory; programmer decides when and where to allocate and deal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* malloc(lon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 free(void *ad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calls OS for more pages whe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are very clever primate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is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too clever and make mistakes. Getting it right can be costly. And don’t we want to automate-away tediu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ws us to implement Garbage Colle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ECA2-8E5C-4D1E-A80B-E508151330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utomatio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9" idx="3"/>
            <a:endCxn id="72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8520" y="1090440"/>
            <a:ext cx="2462040" cy="5615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89360" y="10684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OOT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71760" y="5942160"/>
            <a:ext cx="47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--------------------  HEAP 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D800-D18D-4DDC-8DCF-83B268A924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dentify Cells Reachable From Root Set…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2" idx="3"/>
            <a:endCxn id="105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A12-085F-4D9E-8AC6-B1148658CB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reclaim unreachable cells, and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repeat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3"/>
            <a:endCxn id="130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354-248B-46CA-9E6F-D31D2B77AA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ference Counting, basic idea: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2280" y="1576080"/>
            <a:ext cx="8229600" cy="26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rack of the number of pointers to each object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 reference 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bject is created, set count t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 new pointer to the object is created, increment the cou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n existing pointer to an object is destroyed, decrement the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reference count goes to 0, the object is unreachable garb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96440" y="5121360"/>
            <a:ext cx="35046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learly --- this can be VERY costly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477-EEBC-4003-A364-1C9EEFADFA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9T12:48:01Z</dcterms:modified>
  <cp:revision>263</cp:revision>
  <dc:subject/>
  <dc:title>Slide 1</dc:title>
</cp:coreProperties>
</file>