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BA8-42B7-46C4-8D14-D9D555D7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985-4EA9-4418-B87A-CA1FFECD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BFC-D256-4617-99CB-B387553D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00D-D76E-48F7-A7B9-2D5A851F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1B3-97D5-4CA5-B55B-1D70162D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B66-857F-443C-8987-E93FCD02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1DF-BA04-4119-8039-A87ED3A0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7E4F-AE3F-4110-A480-81E58B30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239-17A3-4D28-B83B-D0C8E231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E67-9164-4892-B415-6672B917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B7F-C500-4E5C-90B6-47A5AA67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A99-D302-434A-AA9F-50E059D0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4CC0-2DAF-4D08-B225-C6229ED1A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0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189-E5BC-4B6F-BC43-19516C5A31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a : gets address from stack top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3529080" y="3181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9600" y="27892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32120" y="39574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95520" y="404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57320" y="3813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4720" y="42559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36D-1CFC-4D52-9E06-EF3CE9BD86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to translate Applic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631800" y="1306440"/>
            <a:ext cx="2229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 (e1, e2 … 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360" y="2457360"/>
            <a:ext cx="28857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0160" y="2911320"/>
            <a:ext cx="290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1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920" y="4133880"/>
            <a:ext cx="2916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n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640" y="4606920"/>
            <a:ext cx="3036600" cy="155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to ex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ress of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om heap, lea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t on top of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560" y="6167520"/>
            <a:ext cx="2808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" y="3610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       :      :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94520" y="178128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94520" y="268452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: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1960" y="4640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1840" y="181116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1840" y="2714760"/>
            <a:ext cx="114912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07200" y="47545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81640" y="181764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94760" y="47959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868200" y="984240"/>
            <a:ext cx="11160" cy="587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95760" y="2658960"/>
            <a:ext cx="90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25920" y="2796840"/>
            <a:ext cx="641520" cy="12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95400" y="2232000"/>
            <a:ext cx="91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0920" y="1415880"/>
            <a:ext cx="92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90360" y="1819440"/>
            <a:ext cx="907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:   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81000" y="1000080"/>
            <a:ext cx="906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1680" y="5145120"/>
            <a:ext cx="38156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ituation just before c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50160" y="5850000"/>
            <a:ext cx="404244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B: code for function must treat v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mplicit parameter in order to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local variables on he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370-4903-4D64-9613-9C46292CCC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his works for functions-as-argument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665280" y="1986120"/>
            <a:ext cx="7191000" cy="283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j(x: int, k: int-&gt; int) { return k(k(x)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j(3, f(21)) + j(-1, f(17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CD8-B769-4865-9C01-3C89F9F74B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ilar problem with reference cell lifetimes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1992240" y="1757520"/>
            <a:ext cx="4752720" cy="3751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fun f(a : int) : int re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b : int ref := 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return 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z : int ref = f(1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!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4FE-7829-4BC7-A06F-6A1D02201A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698400" y="1217520"/>
            <a:ext cx="21636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1200" y="3846600"/>
            <a:ext cx="272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7000" y="1909800"/>
            <a:ext cx="23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22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8640" y="4529160"/>
            <a:ext cx="296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llocate space for x on hea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address of x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24480" y="1863720"/>
            <a:ext cx="4070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un sum(x : int) : 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k : int ref := 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s : int ref :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while  0 &lt; !k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 := !s + !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k := !k -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turn !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um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90840" y="1243080"/>
            <a:ext cx="25560" cy="537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32D-56F8-4690-B1CB-9C8E3A09D5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references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1729080" y="1244520"/>
            <a:ext cx="25534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8720" y="2249640"/>
            <a:ext cx="4981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 0             ; space for x’s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ll __allocate    ; get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py               ; duplicate top of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pto offset       ; store address of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store value of x in he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2880" y="4357800"/>
            <a:ext cx="101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x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7000" y="5103720"/>
            <a:ext cx="402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hfrom offset    ; x’s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48800" y="4257720"/>
            <a:ext cx="424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!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4720" y="515772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from offset ; x’s addres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t             ; x’s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01320" y="36133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7B8-0A14-45A5-9A48-B16F197935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functions-as-value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17440" y="1459080"/>
            <a:ext cx="6124320" cy="3143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78600" y="5060880"/>
            <a:ext cx="51642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h NO!  Our previous approach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ambda lifting” no longer wo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54C8-D478-4620-84E3-DA6219584F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dea --- function values as “closures”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95200" y="1201680"/>
            <a:ext cx="4935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90440" y="423216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20960" y="44197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81600" y="459900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2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35360" y="62578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06280" y="6269040"/>
            <a:ext cx="213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should the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e stored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29320" y="341136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29320" y="431496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60360" y="6211800"/>
            <a:ext cx="12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191120" y="4389120"/>
            <a:ext cx="2179440" cy="34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5400" y="529272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6280" y="54799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6920" y="565956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17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30720" y="4417560"/>
            <a:ext cx="2238480" cy="1041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6560" y="53020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81240" y="42418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84120" y="1735200"/>
            <a:ext cx="284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 closure is a record cont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address of a func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its free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9F2-B4A5-4EE7-A98B-BAFAD6E32E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655720" y="401472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96040" y="523872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ally arra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54280" y="271620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840" y="227664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3960" y="3740040"/>
            <a:ext cx="1157400" cy="15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51040" y="1440000"/>
            <a:ext cx="1157400" cy="12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3680" y="116856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0280" y="217656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048200" y="123480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98960" y="15271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53680" y="22320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144612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2320" y="262728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54360" y="4035600"/>
            <a:ext cx="3387600" cy="2092320"/>
          </a:xfrm>
          <a:custGeom>
            <a:avLst/>
            <a:gdLst/>
            <a:ahLst/>
            <a:rect l="l" t="t" r="r" b="b"/>
            <a:pathLst>
              <a:path w="2654" h="1130">
                <a:moveTo>
                  <a:pt x="0" y="301"/>
                </a:moveTo>
                <a:cubicBezTo>
                  <a:pt x="125" y="301"/>
                  <a:pt x="251" y="301"/>
                  <a:pt x="343" y="381"/>
                </a:cubicBezTo>
                <a:cubicBezTo>
                  <a:pt x="435" y="461"/>
                  <a:pt x="480" y="670"/>
                  <a:pt x="554" y="782"/>
                </a:cubicBezTo>
                <a:cubicBezTo>
                  <a:pt x="628" y="894"/>
                  <a:pt x="677" y="1003"/>
                  <a:pt x="788" y="1052"/>
                </a:cubicBezTo>
                <a:cubicBezTo>
                  <a:pt x="899" y="1101"/>
                  <a:pt x="1026" y="1130"/>
                  <a:pt x="1218" y="1074"/>
                </a:cubicBezTo>
                <a:cubicBezTo>
                  <a:pt x="1410" y="1018"/>
                  <a:pt x="1768" y="875"/>
                  <a:pt x="1940" y="716"/>
                </a:cubicBezTo>
                <a:cubicBezTo>
                  <a:pt x="2112" y="557"/>
                  <a:pt x="2134" y="236"/>
                  <a:pt x="2253" y="118"/>
                </a:cubicBezTo>
                <a:cubicBezTo>
                  <a:pt x="2372" y="0"/>
                  <a:pt x="2513" y="4"/>
                  <a:pt x="2654" y="9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5320" y="540396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instru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39960" y="63781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2200" y="625140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21240" y="115416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47000" y="2759040"/>
            <a:ext cx="164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val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688080" y="25729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5400" y="24242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0400" y="108108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heal_limi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1241280"/>
            <a:ext cx="38880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F6E-ACE0-4155-9945-7AFC2764C4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25880" y="25416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91400" y="280656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3886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96960" y="39924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3765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2880" y="1776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3160" y="4452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4178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69720" y="281304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3280" y="4395960"/>
            <a:ext cx="115704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7040" y="63691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46800" y="43959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45259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02160" y="4299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4880" y="6465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46080" y="61722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50040" y="180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792-943D-4267-BDCB-831DE69C03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4360" y="254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93040" y="403848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16800" y="62229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97720" y="3746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15040" y="38527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76840" y="362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4640" y="63198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5840" y="6026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08200" y="11145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78640" y="4056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35800" y="2649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16120" y="1641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03240" y="397368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7360" y="615780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08280" y="3681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25600" y="3787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7400" y="3560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65200" y="6254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96040" y="59612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11160" y="39974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FE90-CBD3-4203-A224-614C5F0251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Implementation Conven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163880" y="4883040"/>
            <a:ext cx="6520680" cy="1797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__allocate : load 2       ; entry point for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copy  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push 1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arith +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store 2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return       ; exit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81280" y="1395360"/>
            <a:ext cx="10792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1760" y="32464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17640" y="3258720"/>
            <a:ext cx="1066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3880" y="3587760"/>
            <a:ext cx="1054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48320" y="1295280"/>
            <a:ext cx="10796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25280" y="985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11840" y="922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390760" y="2649600"/>
            <a:ext cx="313056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14920" y="273204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94760" y="290844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00160" y="1917720"/>
            <a:ext cx="7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51880" y="3271680"/>
            <a:ext cx="127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free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09640" y="450360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k this onto every jargon progr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46880" y="2822400"/>
            <a:ext cx="166824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We will tal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bout “garb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llectio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other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B49-A53F-4748-9CB2-32CA10AAD9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ress of code may not be known at compile-time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827280" y="1727280"/>
            <a:ext cx="6581520" cy="344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17(3) + f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4D5-5B04-4565-9B95-D3AF091CDE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osure conversion (similar to “lambda lifting”)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76480" y="1200240"/>
            <a:ext cx="65815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)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)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4440" y="3913200"/>
            <a:ext cx="84103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c, x) {return c.1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c, x) {return c.1 *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c,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(g, [a]) else return (h, [a]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34040" y="2790720"/>
            <a:ext cx="995400" cy="901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8560" y="596736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0 = code pointer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48320" y="6221520"/>
            <a:ext cx="380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1 = array of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or some other data structure…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1CE-A54D-493C-B9EA-8C412EADEA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2T14:43:11Z</dcterms:modified>
  <cp:revision>280</cp:revision>
  <dc:subject/>
  <dc:title>Slide 1</dc:title>
</cp:coreProperties>
</file>