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2235-F3D8-4220-BAE7-4B3799AB4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going to talk abo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_very_ simple _and_ efficient compil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415-CA7F-456C-B8A5-016467A4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B7E-F03D-4194-B580-F40937E8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0661-0D41-483A-9EF1-059DF1D6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23A-59B1-4D68-9E6E-F9D8221E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AA5-5F19-4A69-8B3E-E830CE28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6C2-63D7-4B4A-B005-FB795340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E48-DB69-4A55-862A-36E5A537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278-5737-472E-890F-4781A5E8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95E-48D8-4831-B550-82ED3662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286-AFD0-4FEC-9C4D-946E855B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3B3-E313-4BE7-8A80-B3576AF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171-2123-4F32-A8BD-E4AB7F60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2D10-5789-47BD-97B8-3D71E4DEC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5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CDE-C7EE-4D59-85C1-37624151C1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oser look at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2360" y="236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,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9840" y="2332080"/>
            <a:ext cx="430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s an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lat sc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,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9040" y="1901880"/>
            <a:ext cx="218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gh Level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440" y="1962000"/>
            <a:ext cx="2091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embly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9FF-FA9D-40E5-AC14-3763347697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r Approach ---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transformation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2960" y="4114440"/>
            <a:ext cx="82137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preserves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addresses only one aspect of “the g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is fairly easy to underst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81080" y="2760840"/>
                <a:ext cx="6804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⋯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26600" y="214956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03480" y="1944720"/>
            <a:ext cx="131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ssemb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167360" y="524520"/>
            <a:ext cx="409680" cy="4078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06200 h 4078440"/>
              <a:gd name="textAreaBottom" fmla="*/ 3972240 h 407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21280" y="192096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427-0467-44AF-AE72-A4147E33B5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600200"/>
            <a:ext cx="5105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0574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1447920"/>
            <a:ext cx="12189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733920"/>
            <a:ext cx="1752480" cy="83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6240" y="20574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41560" y="2057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2860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4400" y="144792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cuments"/>
          <p:cNvSpPr/>
          <p:nvPr/>
        </p:nvSpPr>
        <p:spPr>
          <a:xfrm>
            <a:off x="228600" y="129528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400" y="19051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28195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00440" y="4122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590920"/>
            <a:ext cx="0" cy="106668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65160" y="1219320"/>
            <a:ext cx="1613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i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3840" y="20574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648320"/>
            <a:ext cx="4876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57600" y="5715000"/>
            <a:ext cx="1671480" cy="519120"/>
            <a:chOff x="3657600" y="5715000"/>
            <a:chExt cx="1671480" cy="519120"/>
          </a:xfrm>
        </p:grpSpPr>
        <p:sp>
          <p:nvSpPr>
            <p:cNvPr id="137" name="Gear"/>
            <p:cNvSpPr/>
            <p:nvPr/>
          </p:nvSpPr>
          <p:spPr>
            <a:xfrm>
              <a:off x="458424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5812920"/>
              <a:ext cx="89028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35040" y="5918040"/>
              <a:ext cx="98964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955400" y="48006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334120"/>
            <a:ext cx="4876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8920" y="579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6080" y="38098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example: 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4040" y="3284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TERPR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6120" y="29718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dware indepen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mediate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781680" y="5715000"/>
            <a:ext cx="1671840" cy="519120"/>
            <a:chOff x="6781680" y="5715000"/>
            <a:chExt cx="1671840" cy="519120"/>
          </a:xfrm>
        </p:grpSpPr>
        <p:sp>
          <p:nvSpPr>
            <p:cNvPr id="147" name="Gear"/>
            <p:cNvSpPr/>
            <p:nvPr/>
          </p:nvSpPr>
          <p:spPr>
            <a:xfrm>
              <a:off x="770868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5812920"/>
              <a:ext cx="89064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9480" y="5918040"/>
              <a:ext cx="99000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3960" y="5105520"/>
            <a:ext cx="3073320" cy="146556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omething to Pon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compiler is just a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how did it get compi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s this a chicken-and-eg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CB5-8F5D-4002-874E-F07C4CD4C3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Front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556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61B-0564-4C89-8642-74B998602B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“Middle End”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19051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6640" y="1981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3124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362320"/>
            <a:ext cx="6782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51460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4382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22096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25909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30481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0481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576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2767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2767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38862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600" y="5257800"/>
            <a:ext cx="46432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is a lot of diversity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ddle-end” -- some compilers a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le others are very simp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666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 of 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35812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2680" y="3962520"/>
            <a:ext cx="189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on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7 of file main.c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ared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3520" y="312408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5240" y="266688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429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2040" y="3886200"/>
            <a:ext cx="191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decl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 string but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n integer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2971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13560" y="304812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2590920"/>
            <a:ext cx="1218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3560" y="2666880"/>
            <a:ext cx="129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4680" y="3048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547400" y="29685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981080"/>
            <a:ext cx="1067040" cy="6098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010280" y="3200400"/>
            <a:ext cx="609480" cy="121896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7880" y="4227480"/>
            <a:ext cx="22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ase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s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2EC-2FC2-4F0F-92C7-8A445979E2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Back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31120" y="2819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905120"/>
            <a:ext cx="52578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7180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1240" y="2209680"/>
            <a:ext cx="2506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generatio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26440" y="2971800"/>
            <a:ext cx="22352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67480" y="3657600"/>
            <a:ext cx="2412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123720"/>
            <a:ext cx="6858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505320"/>
            <a:ext cx="6858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1920" y="5029200"/>
            <a:ext cx="24836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6939360" y="402264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66264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33916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581280"/>
            <a:ext cx="762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7720" y="3276720"/>
            <a:ext cx="981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ar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64800" y="1523880"/>
            <a:ext cx="113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362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59400" y="2971800"/>
            <a:ext cx="1186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57960" y="2209680"/>
            <a:ext cx="1084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3124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00440" y="3657600"/>
            <a:ext cx="1363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4880" y="5029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5181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29C-7328-4717-A353-45FCC26429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ssembly, Linking, Loadin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120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5892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8772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6444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5600" y="76212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5600" y="25146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5600" y="16002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98960" y="4038480"/>
            <a:ext cx="12031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inke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3429000"/>
            <a:ext cx="45720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804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72000" y="3505320"/>
            <a:ext cx="129528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440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505320"/>
            <a:ext cx="198144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52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44956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4876920"/>
            <a:ext cx="480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ingle executable object 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638680"/>
            <a:ext cx="6705720" cy="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1120" y="57150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257800"/>
            <a:ext cx="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17520" y="5226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10400" y="5943600"/>
            <a:ext cx="122760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oa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4114800"/>
            <a:ext cx="228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code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4343400"/>
            <a:ext cx="5335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1066680"/>
            <a:ext cx="685800" cy="243864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56840" y="1504800"/>
            <a:ext cx="145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rom symbo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meric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nd nume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365760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7400" y="3886200"/>
            <a:ext cx="143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solu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re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ngle 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556272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08680" y="5276880"/>
            <a:ext cx="1114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lo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lloc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ynam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n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69640" y="9144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main ta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419720"/>
            <a:ext cx="380880" cy="152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8360" y="4303800"/>
            <a:ext cx="1258200" cy="368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k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067-5AAA-4451-808C-CC42378324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a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 in Java/C/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 books). Appel.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s --- Principles, Techniques, and 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ho, Sethi, and Ullman (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ilhelm, Maurer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iling 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nnett (19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targetable C Compiler: Design and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razer, Hanson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Co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ite, Goos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level Languages and Their Compil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t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4160" y="1297080"/>
            <a:ext cx="8577000" cy="11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74200" y="2104920"/>
            <a:ext cx="107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362-893C-4DBA-876B-F2ABD6CCD9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this Cours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ype 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 Sc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unction Closu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, linker, object fil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ntinu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90720" y="26733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17640" y="4570560"/>
            <a:ext cx="453708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0600" y="1330200"/>
            <a:ext cx="196920" cy="1135080"/>
          </a:xfrm>
          <a:custGeom>
            <a:avLst/>
            <a:gdLst>
              <a:gd name="textAreaLeft" fmla="*/ 0 w 196920"/>
              <a:gd name="textAreaRight" fmla="*/ 70920 w 196920"/>
              <a:gd name="textAreaTop" fmla="*/ 29520 h 1135080"/>
              <a:gd name="textAreaBottom" fmla="*/ 110556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76560" y="171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10440" y="2786040"/>
            <a:ext cx="185760" cy="1611360"/>
          </a:xfrm>
          <a:custGeom>
            <a:avLst/>
            <a:gdLst>
              <a:gd name="textAreaLeft" fmla="*/ 0 w 185760"/>
              <a:gd name="textAreaRight" fmla="*/ 66960 w 18576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35240" y="2840040"/>
            <a:ext cx="140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n-Cam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94600" y="473868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C07-8B23-4303-8F8D-08219E16A3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is a type of Transla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2133360"/>
            <a:ext cx="4114800" cy="422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correct in the sense that meaning is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enerate effici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oduce usable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well-structured and maintain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080" y="20574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18288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400" y="198108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051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16200000">
            <a:off x="266040" y="32374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426708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0040" y="4419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4120" y="25146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956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0" y="563868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ation is a trans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high level” to “low leve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0520" y="1752480"/>
            <a:ext cx="29804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 good compiler shoul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276720"/>
            <a:ext cx="10666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335268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199280" y="4547880"/>
            <a:ext cx="2276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rade offs aboun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A18-F716-4B79-BD07-688AC36DAD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ll Hail Grace Hopper 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263760" cy="41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0" y="1981080"/>
            <a:ext cx="455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rote first compiler in 19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 the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hort Cod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langu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ile working for Remington 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ompiler was called A-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e wrote it because she f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process of compiling Short Cod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nd was boring and tedious, and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nted to spend her time doing “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hematics” instead of task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uld be done by a stupid mach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59400" y="597996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te: as with all claims of priority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will be endlessly disputed…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70A-2F1B-490D-BC7F-AB85CE2D5F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y Study Compiler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hough many of the basic ideas where developed over 30 years ago, compiler construction is still an evolving and active area of research and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intimately related to programming language design and ev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a Computer Science success story that illustrate the hallmarks of our field --- high-level abstractions implemented with low-leve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You are computer scientist.  Nothing done with machines should be mysterious to you!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CB4-62A4-4E92-AB7C-BD7F6068B5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2948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7000" y="0"/>
            <a:ext cx="64580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rd.sourceforge.net/pixel/language-study/diagra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80" y="609480"/>
            <a:ext cx="29088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es of desc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be taken too serious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l from Algol 6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4320" y="2286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2760" y="0"/>
            <a:ext cx="1220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20E-ED9A-439E-98F1-B1D8159B72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CAML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http://caml.inria.fr/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66840" cy="203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21320" y="1752480"/>
            <a:ext cx="48182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 is a dialect of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is course will frequently mine the Oca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mpiler for examp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7080" y="3581280"/>
            <a:ext cx="673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rec map f 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match l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] -&gt; [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head::tail -&gt; (f head) :: (map f 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‘a -&gt; ‘b) -&gt; ‘a list -&gt; ‘b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31120" y="50292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ferred typ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D0F-D329-4298-AC0D-35B1BC8804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11080" y="2505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A Simple and Efficient Compiler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for a Minimal Functional Languag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43080" y="3762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jiro Su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hoku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kb.ecei.tohoku.ac.jp/~sum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90520" y="53942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09520" y="1693800"/>
            <a:ext cx="50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PLAN :Proceedings of the 2005 workshop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and declarative programming in edu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1680" y="603108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7720" y="2457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美しい日本の</a:t>
            </a:r>
            <a:r>
              <a:rPr b="0" lang="en-US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L</a:t>
            </a: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コンパイ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E18-9B10-47DB-AA47-FBE3313DBD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MinCaml Languag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00160" y="1025640"/>
            <a:ext cx="7580160" cy="5684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23960" y="936720"/>
            <a:ext cx="29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al functional langu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E19-AC37-46F6-85CF-4DEEE740FC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78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ind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61760" y="912960"/>
            <a:ext cx="7450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t rec gcd m 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= 0 then n 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&lt;= n then gcd m (n - m) else gcd n (m -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 print_int (gcd 21600 3375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51840" y="2467080"/>
            <a:ext cx="3472560" cy="31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global min_caml_st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in_caml_star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ave    %sp, -112, %s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21600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337500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gcd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min_caml_print_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st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24200" y="2384280"/>
            <a:ext cx="246672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rodata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align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tex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cd.7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ne     be_else.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e_else.19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g      ble_else.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3,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le_else.2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2,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o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o4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2560" y="901800"/>
            <a:ext cx="98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Ca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9280" y="2384280"/>
            <a:ext cx="6770520" cy="46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83080" y="2489040"/>
            <a:ext cx="0" cy="41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873000" y="2323800"/>
            <a:ext cx="2097000" cy="1678320"/>
          </a:xfrm>
          <a:custGeom>
            <a:avLst/>
            <a:gdLst>
              <a:gd name="textAreaLeft" fmla="*/ 698760 w 2097000"/>
              <a:gd name="textAreaRight" fmla="*/ 1796040 w 2097000"/>
              <a:gd name="textAreaTop" fmla="*/ 966600 h 1678320"/>
              <a:gd name="textAreaBottom" fmla="*/ 1437480 h 1678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70360" y="339084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5680" y="5972040"/>
            <a:ext cx="182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C ass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FD8-FF70-4BB4-8BB5-3737F660AA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19T14:06:18Z</dcterms:modified>
  <cp:revision>281</cp:revision>
  <dc:subject/>
  <dc:title>Slide 1</dc:title>
</cp:coreProperties>
</file>