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390-CC9C-48B7-82DB-A9D7B3E8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0556-6E53-4C7B-8AFF-7298EA72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A12F-CCD0-4910-A34D-04C3E5EC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F95F-1D84-4FCB-A358-F1A7A8BE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7C00-5B68-43CA-9CF1-F1CBE50B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C69B-2788-47C9-9686-3815F009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E032-ED27-4B2F-BEB4-6B219D98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9F90-F6E4-4EFC-83EF-DDE056DC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AA3D-1FFC-4684-81B7-019A135C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EAD-AE45-44D9-B444-171E6D03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49C9-ACDF-4D7A-AA6C-3BDB6117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4FA2-EFA0-418A-89A3-0AB20DC1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6333-D4E8-47C4-B642-3867A353F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8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ck Machin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071E-DFB3-436F-8B6D-0A61AE8A05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est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806560" y="209232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79280" y="152892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est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90520" y="1400040"/>
            <a:ext cx="1243080" cy="17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16120" y="18273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3840" y="1576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70000" y="16923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test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63520" y="2639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18320" y="2770200"/>
            <a:ext cx="1242720" cy="12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78480" y="34131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65040" y="320832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02480" y="32479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55600" y="1989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16520" y="971640"/>
            <a:ext cx="1243080" cy="12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77040" y="16146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63600" y="140976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23000" y="14763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76720" y="976320"/>
            <a:ext cx="522360" cy="3195720"/>
          </a:xfrm>
          <a:custGeom>
            <a:avLst/>
            <a:gdLst>
              <a:gd name="textAreaLeft" fmla="*/ 333720 w 522360"/>
              <a:gd name="textAreaRight" fmla="*/ 522720 w 522360"/>
              <a:gd name="textAreaTop" fmla="*/ 83160 h 3195720"/>
              <a:gd name="textAreaBottom" fmla="*/ 3112560 h 319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23120" y="1308240"/>
            <a:ext cx="10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s not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35800" y="2960640"/>
            <a:ext cx="10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s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28880" y="45846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58760" y="4848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52640" y="5146560"/>
            <a:ext cx="124272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1960" y="46893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760" y="44276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96440" y="59817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71720" y="499428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78440" y="4884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77000" y="519912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91080" y="50356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83040" y="4784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0800" y="60339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E3DD-2368-477F-A144-CD62F3C6AC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o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1744560" y="15368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93920" y="21718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15400" y="18622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47800" y="20019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17800" y="2403360"/>
            <a:ext cx="1113120" cy="927360"/>
          </a:xfrm>
          <a:prstGeom prst="rightArrow">
            <a:avLst>
              <a:gd name="adj1" fmla="val 50000"/>
              <a:gd name="adj2" fmla="val 300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83680" y="197820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49200" y="4191120"/>
            <a:ext cx="567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39960" y="4064040"/>
            <a:ext cx="113328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080" y="39654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94560" y="143028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43560" y="20653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65040" y="175572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97800" y="18954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99200" y="4084560"/>
            <a:ext cx="566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89600" y="395748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9720" y="38592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42120" y="4640400"/>
            <a:ext cx="5386680" cy="228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= ru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= stopped (program answer should be on top of sta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= store index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= call out of b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= stack overflo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= fp offset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= return cp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= arith error (div by 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5551-FD11-4C57-93A2-4E7EBCC075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Initial Stat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9" name=""/>
          <p:cNvSpPr/>
          <p:nvPr/>
        </p:nvSpPr>
        <p:spPr>
          <a:xfrm>
            <a:off x="3587760" y="201600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81280" y="158760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75160" y="115884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16000" y="1074600"/>
            <a:ext cx="14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94560" y="19828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16800" y="15192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ummy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98760" y="2205000"/>
            <a:ext cx="996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46200" y="1332000"/>
            <a:ext cx="99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71440" y="119700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70720" y="245916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59040" y="3656160"/>
            <a:ext cx="13258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76200" y="353052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06760" y="3787920"/>
            <a:ext cx="996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52080" y="5079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41360" y="57880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atus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8977-D0F6-4421-BA65-719D0D54F6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5" name=""/>
          <p:cNvSpPr/>
          <p:nvPr/>
        </p:nvSpPr>
        <p:spPr>
          <a:xfrm>
            <a:off x="402840" y="4462560"/>
            <a:ext cx="3513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33560" y="4454640"/>
            <a:ext cx="219240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45840" y="453852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99640" y="4435560"/>
            <a:ext cx="36828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50800" y="351468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dentif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45200" y="357984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91200" y="2671920"/>
            <a:ext cx="1090440" cy="3800160"/>
          </a:xfrm>
          <a:custGeom>
            <a:avLst/>
            <a:gdLst>
              <a:gd name="textAreaLeft" fmla="*/ 696600 w 1090440"/>
              <a:gd name="textAreaRight" fmla="*/ 1090800 w 1090440"/>
              <a:gd name="textAreaTop" fmla="*/ 99000 h 3800160"/>
              <a:gd name="textAreaBottom" fmla="*/ 3701160 h 38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56280" y="2982960"/>
            <a:ext cx="24843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253560" y="3056040"/>
            <a:ext cx="21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from 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26040" y="4255920"/>
            <a:ext cx="248472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24400" y="432900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from -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67440" y="5562720"/>
            <a:ext cx="248436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62440" y="5646600"/>
            <a:ext cx="14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oad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2521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10760" y="1349280"/>
            <a:ext cx="38052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37240" y="1077840"/>
            <a:ext cx="2450880" cy="12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047920" y="1298520"/>
            <a:ext cx="188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to leave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 of e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 of the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59080" y="1219320"/>
            <a:ext cx="1055880" cy="961920"/>
          </a:xfrm>
          <a:prstGeom prst="rightArrow">
            <a:avLst>
              <a:gd name="adj1" fmla="val 50000"/>
              <a:gd name="adj2" fmla="val 27442"/>
            </a:avLst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520680" y="352908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61920" y="612612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lob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396840" y="479736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ormal parame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ED46-0184-4485-BC43-8BD9898EFC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7" name=""/>
          <p:cNvSpPr/>
          <p:nvPr/>
        </p:nvSpPr>
        <p:spPr>
          <a:xfrm>
            <a:off x="1342440" y="1798560"/>
            <a:ext cx="16041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1 op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70560" y="1346040"/>
            <a:ext cx="2192400" cy="209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845320" y="157644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05480" y="2073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99000" y="27939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94920" y="2908440"/>
            <a:ext cx="11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rith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862960" y="233208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120" y="499284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3 * ((8 + 17) * (2 - 6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56440" y="4222800"/>
            <a:ext cx="525564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0 : push 3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1 : push 8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2 : push 17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3 : arith +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4 : push 2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5 : push 6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6 : arith -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7 : arith *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8 : arith *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0" y="3780000"/>
            <a:ext cx="954576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A734-447D-40EC-B275-43B0F20F3D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command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607680" y="340524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sig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91200" y="2671920"/>
            <a:ext cx="1090440" cy="3800160"/>
          </a:xfrm>
          <a:custGeom>
            <a:avLst/>
            <a:gdLst>
              <a:gd name="textAreaLeft" fmla="*/ 696600 w 1090440"/>
              <a:gd name="textAreaRight" fmla="*/ 1090800 w 1090440"/>
              <a:gd name="textAreaTop" fmla="*/ 99000 h 3800160"/>
              <a:gd name="textAreaBottom" fmla="*/ 3701160 h 38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56280" y="2982960"/>
            <a:ext cx="24843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231240" y="3056040"/>
            <a:ext cx="16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to 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67440" y="5562720"/>
            <a:ext cx="248436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77920" y="564660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ore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521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6760" y="1362240"/>
            <a:ext cx="9014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37240" y="1077840"/>
            <a:ext cx="2450880" cy="12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029920" y="1298520"/>
            <a:ext cx="193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produce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ide effect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59080" y="1219320"/>
            <a:ext cx="1055880" cy="961920"/>
          </a:xfrm>
          <a:prstGeom prst="rightArrow">
            <a:avLst>
              <a:gd name="adj1" fmla="val 50000"/>
              <a:gd name="adj2" fmla="val 27442"/>
            </a:avLst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20680" y="352908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61920" y="612612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lob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60720" y="3362400"/>
            <a:ext cx="1909800" cy="19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5600" y="4068720"/>
            <a:ext cx="10508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x = 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48320" y="48261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35760" y="438624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pdate 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438300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65400" y="481176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19200" y="36720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45F4-EF56-4B0E-91D0-3DAB80C7ED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command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29" name=""/>
          <p:cNvSpPr/>
          <p:nvPr/>
        </p:nvSpPr>
        <p:spPr>
          <a:xfrm>
            <a:off x="955800" y="1776240"/>
            <a:ext cx="26312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_1; c_2; … c_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576760" y="1504800"/>
            <a:ext cx="2192400" cy="246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969520" y="1735200"/>
            <a:ext cx="16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611680" y="22320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92600" y="3129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77000" y="327816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_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772680" y="246060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26560" y="241920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2474-3F21-42E3-8FB7-7A3097F95C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ditionals, Loop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8" name=""/>
          <p:cNvSpPr/>
          <p:nvPr/>
        </p:nvSpPr>
        <p:spPr>
          <a:xfrm>
            <a:off x="486360" y="1366920"/>
            <a:ext cx="326232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f e then c1 else c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92080" y="2168640"/>
            <a:ext cx="2192400" cy="402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55320" y="2398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03240" y="3048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2160" y="314316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st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20880" y="36162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96760" y="42609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272960" y="37306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34680" y="428616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to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27000" y="4794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49840" y="494352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: code for c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061640" y="56530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:     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667120" y="1349280"/>
            <a:ext cx="20750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hile e { c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87920" y="2185920"/>
            <a:ext cx="21924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54240" y="235908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: 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99080" y="30654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48360" y="316080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st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16720" y="3633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592600" y="4278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56920" y="37479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230520" y="430380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to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804640" y="486108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:    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44640" y="566748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10240" y="48117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EDB9-46F4-4D12-8F8F-B27A47704E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5464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ditional Exampl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3" name=""/>
          <p:cNvSpPr/>
          <p:nvPr/>
        </p:nvSpPr>
        <p:spPr>
          <a:xfrm>
            <a:off x="5097600" y="171360"/>
            <a:ext cx="360504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0 : push 0             ; slot for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 : push 0             ; slot for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 : push 19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 : popto 2            ; store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 : push 10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 : popto 3            ; store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 : load 2               ; load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7 : load 3               ; load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8 : call 14              ; call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9 : swap                 ; remove arg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0 : pop                  ; 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1 : swap               ; remove arg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2 : pop                  ; 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3 : stop                 ; that's all folk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4 : push 0             ; slot for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5 : push 0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6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7 : pushfrom -2     ; load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8 : pushfrom -1     ; load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9 : arith &lt;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0 : test 24             ; if (x &lt; 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1 : push 100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2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3 : goto 26            ; jump over else cla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4 : push 500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5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6 : skip                 ; end 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7 : pushfrom 2     ; load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8 : return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6680" y="957240"/>
            <a:ext cx="3403440" cy="3744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x, 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x &lt;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a = 10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a = 50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(x, 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37080" y="3868560"/>
            <a:ext cx="4465800" cy="207504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22720" y="5546880"/>
            <a:ext cx="1287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n else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8B50-FB88-40ED-A6B6-7408F6BFA5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52960" cy="809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, While loo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8" name=""/>
          <p:cNvSpPr/>
          <p:nvPr/>
        </p:nvSpPr>
        <p:spPr>
          <a:xfrm>
            <a:off x="5827680" y="14796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50040" y="150840"/>
            <a:ext cx="354420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0 : push 4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 : call 5            ; call 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 : swap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 : pop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 : stop              ; that's all folk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 : push 0           ; slot for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 : push 0           ; slot for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 : pushfrom -1 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 : popto 2          ; store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 : push 0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0 : popto 3         ; store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1 : push 0          ; begin whil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2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3 : arith &lt;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4 : test 24          ; check (0 &lt; 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5 : pushfrom 3   ; load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6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7 : arith +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8 : popto 3         ; store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9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0 : push 1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1 : arith -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2 : popto 2         ; store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3 : goto 11         ; while loop ite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4 : skip               ; end w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5 : pushfrom 3    ; load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6 : return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09440" y="1871640"/>
            <a:ext cx="2375280" cy="301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sum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k = 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s = 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while  0 &lt; k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s = s + k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k = k -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sum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32280" y="2870280"/>
            <a:ext cx="4570560" cy="347184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39960" y="5910120"/>
            <a:ext cx="1130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hil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E6CE-E7E9-4FD1-85B7-89702BB25C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LANG: A (S)imple (LANG)uage (v0.1)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6981840" y="1893960"/>
            <a:ext cx="117432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oca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datatyp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or SL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S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080" y="1104840"/>
            <a:ext cx="8136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name = st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binary_op = PlusOp | TimesOp | MinusOp | Div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q | Lt | Lte | Gt | G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And |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unary_op = UnaryMinusOp |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expression = Ident of n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Number of 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Unary of unary_op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Binary of binary_op * expression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Apply of name * (expression lis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command = Assignment of name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Sequence of command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Condition of  expression * command * comm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Return of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While of expression *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Block of (local_declaration list) *command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local_declaration = Var of name *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global_declaration = Let of name *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Fun of name * (name list) * (local_declaration list) *comm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slang = Slang of (global_declaration list)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E905-AB57-4255-A6BB-59DF9D6F1E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LANG example, with AS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5640480" y="1268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9920" y="3848040"/>
            <a:ext cx="6886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l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[Fun ("f", ["y"; "x"], [Var ("z", Number 17)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Binary (TimesOp, Ident "z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Ident "y", Ident "x"))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("x", Number 19); Let ("y", Number 10)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Number 2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MinusOp, Apply ("f", [Ident "x"; Ident "y"]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pply ("f", [Ident "y"; Ident "x"]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0240" y="1014480"/>
            <a:ext cx="3228480" cy="2770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y, 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z = 1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z * (y + 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20 * (f(x, y) - f(y,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EBCF-8617-4B5E-A856-7400097CD0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e will translate SLANG to JARG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56960" y="3424320"/>
            <a:ext cx="12214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LANG a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289320" y="3567240"/>
            <a:ext cx="1238400" cy="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1320" y="3432240"/>
            <a:ext cx="1614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Jargon Cod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4920" y="2643120"/>
            <a:ext cx="155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4880" y="4049640"/>
            <a:ext cx="252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rgon is my 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nted abstract ST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32E2-EC56-4DC6-B1AC-DC3F5AF333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Virtual Machine (v0.1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4641840" y="1143000"/>
            <a:ext cx="1157400" cy="249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5400" y="1935000"/>
            <a:ext cx="1683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6520" y="3935520"/>
            <a:ext cx="1157400" cy="15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" y="3154320"/>
            <a:ext cx="161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l-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27840" y="1835280"/>
            <a:ext cx="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035760" y="893520"/>
            <a:ext cx="0" cy="8557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86520" y="11858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41240" y="189072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22840" y="1104840"/>
            <a:ext cx="815760" cy="10191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2286000"/>
            <a:ext cx="839880" cy="5666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97560" y="454968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827520" y="603684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9760" y="591012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5280" y="2629080"/>
            <a:ext cx="8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873600" y="435096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21CA-57A5-44AB-AEEB-7ADEB7964F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Instructions: pop, popto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2073240" y="13255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03480" y="1589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97000" y="188748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6680" y="1430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8480" y="1168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41160" y="2722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16440" y="17352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5680" y="105264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17082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75320" y="202248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9760" y="1859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81720" y="1608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19480" y="2857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81240" y="3662280"/>
            <a:ext cx="115740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5000" y="65977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12920" y="632772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16160" y="530064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73320" y="36640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03560" y="3927600"/>
            <a:ext cx="117000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06400" y="37688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68200" y="3506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40280" y="532764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01680" y="462276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pto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43200" y="66945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74040" y="6400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3886200"/>
            <a:ext cx="11574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53160" y="65977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61080" y="632772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64320" y="530064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7840" y="3875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2280" y="40147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51280" y="3811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91360" y="66945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22200" y="6400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2920" y="5651640"/>
            <a:ext cx="11383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51960" y="561348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+j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30760" y="399420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local v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AB1F-4CB1-4A90-BFA9-096695316F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Instructions: push, pushfrom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6585120" y="14428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15000" y="17064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08880" y="2004840"/>
            <a:ext cx="124272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8200" y="1547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0000" y="1285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52680" y="28400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14640" y="185256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800" y="110016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sh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6400" y="1743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4960" y="205740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81000" y="16430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60080" y="27986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83400" y="3427560"/>
            <a:ext cx="1157400" cy="31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0716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508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18320" y="50655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75480" y="3429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36925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08560" y="35337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70360" y="3271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40280" y="532764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50480" y="4646520"/>
            <a:ext cx="17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shfrom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45360" y="64594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7620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4960" y="3651120"/>
            <a:ext cx="115704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03400" y="36399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7840" y="37800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96840" y="35766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5416560"/>
            <a:ext cx="11383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600" y="539100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+j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53160" y="5397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48320" y="392436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local v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B6D0-2C9F-4D38-80F1-B5D1F461ED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op-of-Stack swap and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op-of-Stack arithmetic 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1851120" y="1176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2320" y="1803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16200" y="2101680"/>
            <a:ext cx="124308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32080" y="13050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93880" y="1042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60000" y="29368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19494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60480" y="140184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05040" y="14922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8200" y="11937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9760" y="1820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83280" y="211932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99160" y="1322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60960" y="1060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27440" y="29541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72120" y="1509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0840" y="3587760"/>
            <a:ext cx="8993160" cy="12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62280" y="4272120"/>
            <a:ext cx="124272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3480" y="4898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7360" y="5197320"/>
            <a:ext cx="124272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42880" y="4400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4680" y="4138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6440" y="4848120"/>
            <a:ext cx="1112760" cy="927360"/>
          </a:xfrm>
          <a:prstGeom prst="rightArrow">
            <a:avLst>
              <a:gd name="adj1" fmla="val 50000"/>
              <a:gd name="adj2" fmla="val 299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7600" y="442764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ith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45277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05680" y="5135400"/>
            <a:ext cx="124272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49920" y="46782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99120" y="44863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16200" y="4587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89840" y="48355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95560" y="4118040"/>
            <a:ext cx="282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= (value 1) op (value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55080" y="6080040"/>
            <a:ext cx="56656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p in { + , *, -, / , &lt;, &gt;, &lt;=, &gt;=, =, &amp;&amp;, ||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F4E0-6BEA-4A43-9F78-2D616459F5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oto, skip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4027320" y="178920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39480" y="119052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oto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14640" y="12812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28720" y="1857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26440" y="16066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17880" y="17463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goto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87640" y="2208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81800" y="124128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30800" y="23335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17360" y="21286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54800" y="21686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49640" y="3108240"/>
            <a:ext cx="45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status to an error code if k is not in range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505320"/>
            <a:ext cx="914400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44800" y="470232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2280" y="406872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k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32120" y="4194000"/>
            <a:ext cx="124272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46200" y="47703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43920" y="4519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35000" y="4659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28880" y="49579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10240" y="41990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3520" y="51386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11240" y="48880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13480" y="46641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07000" y="4962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DB23-60A4-426A-BB55-326FC5F77F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07T15:38:20Z</dcterms:modified>
  <cp:revision>268</cp:revision>
  <dc:subject/>
  <dc:title>Slide 1</dc:title>
</cp:coreProperties>
</file>