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A9AC-7899-47F0-8235-BE385DFC5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1F55-FDD6-4AD5-BA2B-EA30A836E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EAAF-BFA6-4000-A428-CF7185BD0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CE76-EC72-4EEA-9CF7-6468EB653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DF35-1DCE-4D52-B424-62D8BB88E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0A2C-3B44-43A9-92C2-174CAE43E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AD5A-F51F-4A00-A452-472948CA8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6DF5-9086-4052-B218-B0FEE8845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351-C5BF-4353-8AD1-5238EE0D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42E-3C4C-4961-8FA8-EF20B966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C1D-F37D-4B00-A049-DD8CE318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77F-4690-4B01-B3CD-84C2A929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E8D-0F65-47B1-BA4C-31000909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D96-1989-4B63-9E46-2B809BC6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50C-9C49-4C9D-8A91-5B61F221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B65-4EA0-4EAA-96E5-EAF323C7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64B-C31D-4B04-A8E4-50BD7044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4EF-C9B2-42E8-9F03-AD93BF74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7A3-A146-45E3-BDF1-03879F37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390-F970-41FF-B71B-2F7F0DE9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0FCD-41CC-4FE9-9BAB-781113C46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620-5AE3-44FE-BB3A-D4A8E9CD84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Stat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or example the LR(1)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be merged to the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/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/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ed LALR(1)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s for LookAhead 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 times fewer LALR(1) states than LR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123-E6A8-46AF-A98F-0DCE336153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For LALR(1), Collapse States .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3108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5197320"/>
            <a:ext cx="4803840" cy="6368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3576600"/>
            <a:ext cx="2211480" cy="1065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7240" y="3830760"/>
            <a:ext cx="7662600" cy="2512800"/>
          </a:xfrm>
          <a:custGeom>
            <a:avLst/>
            <a:gdLst/>
            <a:ahLst/>
            <a:rect l="l" t="t" r="r" b="b"/>
            <a:pathLst>
              <a:path w="4827" h="1583">
                <a:moveTo>
                  <a:pt x="0" y="336"/>
                </a:moveTo>
                <a:lnTo>
                  <a:pt x="51" y="1583"/>
                </a:lnTo>
                <a:lnTo>
                  <a:pt x="4827" y="1546"/>
                </a:lnTo>
                <a:lnTo>
                  <a:pt x="4754" y="0"/>
                </a:lnTo>
                <a:lnTo>
                  <a:pt x="3084" y="15"/>
                </a:lnTo>
                <a:lnTo>
                  <a:pt x="3069" y="751"/>
                </a:lnTo>
                <a:lnTo>
                  <a:pt x="4681" y="759"/>
                </a:lnTo>
                <a:lnTo>
                  <a:pt x="4717" y="1451"/>
                </a:lnTo>
                <a:lnTo>
                  <a:pt x="1123" y="1444"/>
                </a:lnTo>
                <a:lnTo>
                  <a:pt x="1247" y="292"/>
                </a:lnTo>
                <a:lnTo>
                  <a:pt x="0" y="33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9520" y="3067200"/>
            <a:ext cx="2511720" cy="2025360"/>
          </a:xfrm>
          <a:custGeom>
            <a:avLst/>
            <a:gdLst/>
            <a:ahLst/>
            <a:rect l="l" t="t" r="r" b="b"/>
            <a:pathLst>
              <a:path w="1582" h="1276">
                <a:moveTo>
                  <a:pt x="58" y="29"/>
                </a:moveTo>
                <a:lnTo>
                  <a:pt x="51" y="241"/>
                </a:lnTo>
                <a:lnTo>
                  <a:pt x="1538" y="241"/>
                </a:lnTo>
                <a:lnTo>
                  <a:pt x="1538" y="1050"/>
                </a:lnTo>
                <a:lnTo>
                  <a:pt x="7" y="1043"/>
                </a:lnTo>
                <a:lnTo>
                  <a:pt x="0" y="1276"/>
                </a:lnTo>
                <a:lnTo>
                  <a:pt x="1582" y="1262"/>
                </a:lnTo>
                <a:lnTo>
                  <a:pt x="1582" y="0"/>
                </a:lnTo>
                <a:lnTo>
                  <a:pt x="58" y="2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11924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mbine states 6 and 13, 7 and 12, 8 and 11, 10 and 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979-31AD-47D3-BA4F-DCAD8A21AF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ALR(1)-parse-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B36-2605-47DF-949C-9C0163547A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vs. LR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R languages are not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n efficiency hack on L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see claims that any reasonable programming language has a LALR(1) grammar, {Arguably this is done by defining languages without an LALR(1) grammar as unreason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ase, LALR(1) has become a standard for programming languages and for parser generators, in spite of its apparent complex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391-CBA3-4467-BD2B-F8306850F2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 and Parser Generato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1238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http://catalog.compilertools.net/lexpar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5960" y="1746360"/>
            <a:ext cx="182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FLEX A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N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/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T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GEN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PO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0040" y="1798560"/>
            <a:ext cx="209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C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O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ISUALPARSE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AC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9040" y="5722920"/>
            <a:ext cx="42238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’ll use ocamllex and ocamlyacc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6D2-A220-44F1-937C-07DD2CFCB0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t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158904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unary_op = UnaryMinus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ast = Ident of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Unary of unary_op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Binary of binary_op * ast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F6F-07D1-4A9F-BA81-BA69AFB1F9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er.ml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-322920" y="966960"/>
            <a:ext cx="7008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int&gt; 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string&gt; 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PLUS MINUS TIMES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LPAREN RP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PLUS MINUS        /* low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TIMES DIV         /* medium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nonassoc UMINUS        /* high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start parse_it         /* the entry poi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ype &lt;ast&gt; parse_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se_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 EOF                { $1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                     { Number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IDENT                   { Ident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LPAREN expr RPAREN      { $2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PLUS expr          { Binary(Pl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MINUS expr         { Binary(Min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TIMES expr         { Binary(Time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DIV expr           { Binary(Div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MINUS expr %prec UMINUS { Unary(UnaryMinusOp, $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5440" y="6089760"/>
            <a:ext cx="4280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yacc parser.mly 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parser.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this case producing a 21-state D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2E8-A350-448E-A73E-A347703853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.m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1873080"/>
            <a:ext cx="8181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ule tokenize = p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[' ' '\t' '\n' ]     { tokenize lexbuf } (* skip white-space 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a'-'z' 'A'-'Z']['a'-'z' 'A'-'Z' '0'-'9']* as lxm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{ IDENT(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0'-'9']+ as lxm    { INT(int_of_string 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+'                  { PL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-'                  { MIN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*'                  { TIME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/'                  { DIV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('                  { L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)'                  { R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of                  { EO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3960" y="5354640"/>
            <a:ext cx="481824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ocamllex lexer.mll 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lexer.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in this case producing an 11-state D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with 342 trans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1600" y="58039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AA4-A3FD-4B90-BDF9-8532220044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Parse i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1262160"/>
            <a:ext cx="8349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ast_of_string 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lexbuf = Lexing.from_string 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rse_it tokenize lexb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(9 - 10) + ((-xyz100) * 44)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9 - 10 + -xyz100 * 44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C21-13B1-4471-A7EA-72C59CACF7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crete vs. Abstract Syntax Tre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64080" y="1202400"/>
            <a:ext cx="1911240" cy="3812400"/>
            <a:chOff x="1864080" y="1202400"/>
            <a:chExt cx="1911240" cy="3812400"/>
          </a:xfrm>
        </p:grpSpPr>
        <p:sp>
          <p:nvSpPr>
            <p:cNvPr id="99" name=""/>
            <p:cNvSpPr/>
            <p:nvPr/>
          </p:nvSpPr>
          <p:spPr>
            <a:xfrm>
              <a:off x="3083400" y="1202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1480" y="16102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0" y="206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600" y="25167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 S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90880" y="1579680"/>
              <a:ext cx="14760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7760" y="1550880"/>
              <a:ext cx="1494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7280" y="1579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0160" y="199692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0160" y="24289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647800" y="2398680"/>
              <a:ext cx="1634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90880" y="2398680"/>
              <a:ext cx="1476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0720" y="206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5720" y="1996920"/>
              <a:ext cx="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5760" y="29581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0160" y="2874960"/>
              <a:ext cx="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320" y="340560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33400" y="2905200"/>
              <a:ext cx="1922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874960"/>
              <a:ext cx="16344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280" y="33354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5000" y="3389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S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3480" y="33210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5680" y="38199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109320" y="3753000"/>
              <a:ext cx="11916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767040"/>
              <a:ext cx="103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73480" y="378288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7240" y="3276720"/>
              <a:ext cx="32688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34600" y="3321000"/>
              <a:ext cx="14940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4080" y="379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66760" y="376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880" y="426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35160" y="41990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4520" y="425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066760" y="419904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93640" y="391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3040" y="379728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6960" y="455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3480" y="413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06760" y="238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388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536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26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068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16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6372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22520" y="3500280"/>
            <a:ext cx="2379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530520"/>
            <a:ext cx="30240" cy="22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3083040"/>
            <a:ext cx="2527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12920"/>
            <a:ext cx="29664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89840" y="3514680"/>
            <a:ext cx="149040" cy="2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3500280"/>
            <a:ext cx="11916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56280" y="2697120"/>
            <a:ext cx="22392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2666880"/>
            <a:ext cx="2080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720" y="1218240"/>
            <a:ext cx="221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arse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rivation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3480" y="205632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bstract Syntax Tree (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776680"/>
            <a:ext cx="815760" cy="352440"/>
          </a:xfrm>
          <a:prstGeom prst="rightArrow">
            <a:avLst>
              <a:gd name="adj1" fmla="val 50000"/>
              <a:gd name="adj2" fmla="val 5786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4800" y="4267080"/>
            <a:ext cx="4140000" cy="81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 AST contains only the information needed to generate an intermediate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1320" y="5562720"/>
            <a:ext cx="8110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compiler constructs the concrete syntax tree only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the parsing process) and explicitly constructs the AST v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380-450B-4940-807D-EF6B450E3F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roblem With LR(0)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No look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Vulnerable to unnecess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Shift/Reduce Conflicts (may reduce too soon in some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Reduce/Reduc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LR(1) parsing - systematic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F48-F943-460A-948E-07DB838447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1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7160" y="161100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R(1)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inal (the lookahead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means 1 lookahea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context of the pars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find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 (at least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ady on 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we need to see nex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fix deri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512-23C6-4858-8702-EEA989E525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Closure Oper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odify closure operation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(Items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] i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 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Items i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227-F718-46CC-833B-62A68743C6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the Parsing DFA (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73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FA state is a closed set of LR(1)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contai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’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$, dumm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beled with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duce with 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n lookahead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the transit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BC6-18A7-433F-876A-1F6D680A06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DFA Transi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346040"/>
            <a:ext cx="8229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s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transition labe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 obtained from Transition(s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can be a terminal or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(s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=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losure(I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86F-1057-4A1E-AE3A-0624B4C83D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the 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ift and goto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ate I with item (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., z) gives a reduce 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if z is the next character in the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R(1)-parse tables are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695-ED26-4469-819C-A4CEDBD5C0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DF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65320" y="1693800"/>
            <a:ext cx="70786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9480" y="5965920"/>
            <a:ext cx="70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1897200"/>
            <a:ext cx="1250640" cy="3111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’ ::= 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V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*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E22-EA2F-49FD-A42F-CBBE6EC81B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484280"/>
          <a:ext cx="8569080" cy="4064040"/>
        </p:xfrm>
        <a:graphic>
          <a:graphicData uri="http://schemas.openxmlformats.org/drawingml/2006/table">
            <a:tbl>
              <a:tblPr/>
              <a:tblGrid>
                <a:gridCol w="536400"/>
                <a:gridCol w="534960"/>
                <a:gridCol w="534960"/>
                <a:gridCol w="534960"/>
                <a:gridCol w="536760"/>
                <a:gridCol w="534960"/>
                <a:gridCol w="536400"/>
                <a:gridCol w="536760"/>
                <a:gridCol w="533520"/>
                <a:gridCol w="536400"/>
                <a:gridCol w="534960"/>
                <a:gridCol w="536760"/>
                <a:gridCol w="534960"/>
                <a:gridCol w="534960"/>
                <a:gridCol w="534960"/>
                <a:gridCol w="536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976-D4A4-49C8-8662-2A2124FF44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2Z</dcterms:modified>
  <cp:revision>268</cp:revision>
  <dc:subject/>
  <dc:title>Slide 1</dc:title>
</cp:coreProperties>
</file>