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F665-F311-4B2C-AD80-4F3D3A5F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3D0-EC86-47A2-AB6F-08A38C88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A2E4-05C9-4E4C-9958-90870F22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22B-545E-4485-8199-50FE1271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E2B-90EF-48E8-84D8-364B49A0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31D6-4EAA-4913-A478-82F7E222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AA4-3ED7-4D90-922D-831B0870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CA03-6EF1-4CBE-8965-8E7D25A1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B9C-C752-4342-8BAA-ACA2E6C8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282-D5E3-40EE-8DF3-7FB7D113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DB11-1008-4015-9156-B1F53C9C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EDD-DF0A-4A35-BF0A-29DEB35E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8933-4C43-4E4A-A916-E61E85DCA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tic Analysis --- Variables, Scope, and Typ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D515-AB29-475A-A221-206CA3563E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s and Type Error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583200" y="1582560"/>
            <a:ext cx="310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“this”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080" y="2687760"/>
            <a:ext cx="4386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t f(int x, int y)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(1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92840" y="41655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type systems imposes a discipline on programming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nsures that the abstractions represented by typ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t violated by a correct progr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78320" y="1463760"/>
            <a:ext cx="854280" cy="2352600"/>
          </a:xfrm>
          <a:custGeom>
            <a:avLst/>
            <a:gdLst>
              <a:gd name="textAreaLeft" fmla="*/ 0 w 854280"/>
              <a:gd name="textAreaRight" fmla="*/ 308520 w 854280"/>
              <a:gd name="textAreaTop" fmla="*/ 61200 h 2352600"/>
              <a:gd name="textAreaBottom" fmla="*/ 2291400 h 23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51760" y="2462040"/>
            <a:ext cx="21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vious typ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32040" y="542592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ules can be enforced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ile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n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28280" y="5925960"/>
            <a:ext cx="1204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02800" y="5859360"/>
            <a:ext cx="149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98B-392C-468C-9E50-926452A128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a type error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813960" y="173664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true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9440" y="120636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is a type err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8560" y="250812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080" y="33368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bout th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9480" y="385452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g(x)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5240" y="4773600"/>
            <a:ext cx="76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can prove that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(x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lways true, then is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9320" y="5499000"/>
            <a:ext cx="84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at might be too much to ask for a (static) type checking system,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looks like a undecidable proble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137-CD8C-4218-9315-F38A28C53F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 Sys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3560" y="1074240"/>
            <a:ext cx="82296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nguage’s type system specifies how to construct types and which operations are valid for which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provide a concise formalization of the semantic check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can be thought of 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which some very weak assertions can be proved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01200" y="3973680"/>
            <a:ext cx="52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preconditions} program {postcondition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5200" y="526104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{ x :int } y = x + 17;  { y : int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AF24-1E48-4D48-BA61-40E4BF34E9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other way to think of types as a logic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5712120" y="23130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5120" y="140184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75360" y="148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960" y="239544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70240" y="1547640"/>
            <a:ext cx="34920" cy="464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57160" y="4538520"/>
            <a:ext cx="33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A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4480" y="4489560"/>
            <a:ext cx="429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x:A |- x :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3800" y="3925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BF0-93D4-4687-BA16-8A7FC04DEB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junction and Pair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5081040" y="18255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: A                H |- b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a, b) :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68280" y="4332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st(p) :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67520" y="4317840"/>
            <a:ext cx="192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snd(p) :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13240" y="2120760"/>
            <a:ext cx="12600" cy="397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200" y="20289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               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2440" y="45356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3040" y="4521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A3E-1EA9-4340-BF9D-FD4234EECE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mplication and function types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4413240" y="212076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202896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A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9640" y="3571920"/>
            <a:ext cx="306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3160" y="2233440"/>
            <a:ext cx="291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x:A |- e: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un x:A.e :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0400" y="3776760"/>
            <a:ext cx="357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: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(a)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3A1-888A-46F4-BC30-6663654989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junction and Case Switch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71360" y="3164040"/>
            <a:ext cx="87282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800" y="34005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5440" y="11556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4240" y="199404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49640" y="1962000"/>
            <a:ext cx="385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||B     H,A |- C    H,B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84680" y="195408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09840" y="386712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r(a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99440" y="379080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l(b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0000" y="5286240"/>
            <a:ext cx="624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d : A||B     H, x:A |- e1 : C    H, y:B |- e2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case d of inr(x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1, inr(y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2)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3136-CB04-459D-BA5F-5A2A8FC571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5130-A45D-4348-BB68-99E73CD960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3440" y="4483080"/>
            <a:ext cx="46332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k) vs. LR(k) reduct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28800" y="1130400"/>
                <a:ext cx="700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β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∪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65360" y="1930320"/>
                <a:ext cx="1187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L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451400" y="1817640"/>
            <a:ext cx="23760" cy="460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040" y="2498760"/>
            <a:ext cx="815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892840" y="1878120"/>
                <a:ext cx="11858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708120" y="2936880"/>
            <a:ext cx="29257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8600" y="293544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862280" y="284652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 flipV="1">
            <a:off x="1682640" y="347472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1881000" y="316188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32200" y="3651120"/>
            <a:ext cx="19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160" y="4950000"/>
            <a:ext cx="463680" cy="107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24320" y="57117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703440" y="449892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822400" y="447984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7440" y="4933800"/>
            <a:ext cx="46332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22400" y="4441680"/>
                <a:ext cx="427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474920" y="4863960"/>
            <a:ext cx="987120" cy="560520"/>
          </a:xfrm>
          <a:prstGeom prst="rightArrow">
            <a:avLst>
              <a:gd name="adj1" fmla="val 50000"/>
              <a:gd name="adj2" fmla="val 44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0640" y="4422600"/>
            <a:ext cx="108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ef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81680" y="438300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23000" y="2860560"/>
            <a:ext cx="341280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83120" y="2859120"/>
            <a:ext cx="11098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76800" y="2770200"/>
                <a:ext cx="555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 flipV="1">
            <a:off x="6970680" y="32889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7216560" y="308556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92160" y="3514680"/>
            <a:ext cx="138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73760" y="484992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02920" y="561168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026560" y="437364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8001000" y="437976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05680" y="483408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904000" y="4329000"/>
                <a:ext cx="426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653160" y="4764240"/>
            <a:ext cx="987480" cy="560160"/>
          </a:xfrm>
          <a:prstGeom prst="rightArrow">
            <a:avLst>
              <a:gd name="adj1" fmla="val 50000"/>
              <a:gd name="adj2" fmla="val 440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9200" y="43988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400" y="1838160"/>
            <a:ext cx="815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015400" y="437508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879440" y="6103800"/>
            <a:ext cx="2126880" cy="58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The language of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Stack IS REGULA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E7B-C1F2-4D51-8AAD-F37E087ADE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610000"/>
            <a:ext cx="8510400" cy="20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97000" y="1109520"/>
            <a:ext cx="426744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67480" y="301932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k) states (non-deterministic)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373480" y="1136520"/>
                <a:ext cx="41115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390680" y="2911320"/>
            <a:ext cx="292572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51160" y="290988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544840" y="282096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 flipV="1">
            <a:off x="2365200" y="34491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9560" y="348624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25120" y="293220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567480" y="3070080"/>
                <a:ext cx="426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27080" y="5205240"/>
                <a:ext cx="3772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7250760" y="28004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5680" y="11905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360" y="19684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hould represent this situ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5240" y="294012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9200" y="53560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9C72-A8E0-40B9-8063-054E927AA8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Stack Mach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Register Machine &amp; 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de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6280" y="399888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45280" y="500544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49960" y="2863800"/>
            <a:ext cx="196920" cy="1013040"/>
          </a:xfrm>
          <a:custGeom>
            <a:avLst/>
            <a:gdLst>
              <a:gd name="textAreaLeft" fmla="*/ 0 w 196920"/>
              <a:gd name="textAreaRight" fmla="*/ 70920 w 196920"/>
              <a:gd name="textAreaTop" fmla="*/ 26280 h 1013040"/>
              <a:gd name="textAreaBottom" fmla="*/ 986760 h 101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87560" y="491184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47080" y="4068720"/>
            <a:ext cx="220680" cy="709560"/>
          </a:xfrm>
          <a:custGeom>
            <a:avLst/>
            <a:gdLst>
              <a:gd name="textAreaLeft" fmla="*/ 0 w 220680"/>
              <a:gd name="textAreaRight" fmla="*/ 79560 w 220680"/>
              <a:gd name="textAreaTop" fmla="*/ 18360 h 709560"/>
              <a:gd name="textAreaBottom" fmla="*/ 69120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00C4-03F6-4B97-9877-B8CCA5AE7E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3680" y="380520"/>
            <a:ext cx="885996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Names, binding, scope, type checking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4280" y="2565360"/>
            <a:ext cx="408960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,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(visi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1200" y="1297080"/>
            <a:ext cx="306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tatic int x = 17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oid f(int x, int 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i,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 = i + 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g(int i, int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k, x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i, 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52D-28C5-40DA-8C3C-0F3432BF4A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cop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variable is the range of statements over which it is 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nlocal 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program unit are those that are visible but not declared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ope rules of a language determine how references to names are associated with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01D-7EAE-4C90-8562-93C8ED1915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-values vs. R-valu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124800" y="1447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x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1480" y="1523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97040" y="1864800"/>
            <a:ext cx="573120" cy="560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9880" y="246204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emory lo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154400" y="1923840"/>
            <a:ext cx="473040" cy="48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40960" y="2459160"/>
            <a:ext cx="35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stored at th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 associated with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0240" y="44560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A[j*2] = j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88920" y="437508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s may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d at run-ti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91A-FC09-45E5-9DC5-6A06B4F48F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27400" y="-360"/>
            <a:ext cx="461304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in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6200" y="115560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is not formally defined. Intuitively, we associate (that is, bind) an attribute with an entity. Examples of attributes are name, type,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occurs at various times in the life of a program. Three periods are usually conside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il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ctually, translation time, because binding happens both in compilers and interpreter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ad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paring object code for execution, pulling in the necessary code for built-in operations or operations defined in libraries of modul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tween starting the program's execution and its termina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30A-FAF5-406E-BC70-F6C967DF9B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ynamic binding is just a BAD IDE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557440" y="1774800"/>
            <a:ext cx="29239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a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f(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g(a) = f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 g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620800" y="3608280"/>
            <a:ext cx="11224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92280" y="374184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39960" y="370188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49840" y="3605040"/>
            <a:ext cx="1155600" cy="76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64320" y="45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6680" y="452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720" y="5156280"/>
            <a:ext cx="627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hough dynamic scoping is easier to implement, reading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ing code can be nearly impossi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8B43-A414-4328-B1DC-19DCB76E4E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3T09:29:01Z</dcterms:modified>
  <cp:revision>282</cp:revision>
  <dc:subject/>
  <dc:title>Slide 1</dc:title>
</cp:coreProperties>
</file>